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31324-A9BB-4C68-8C4E-81DF3691B81B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B49-B2D6-4EE2-9CE8-E353204C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085-413C-4873-90E7-EBB5FDD0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AF9-61BE-4EE4-BDE9-AE56331E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17E-4F86-4C12-8A84-267817A4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832-077A-4F3E-8143-8B3E4A78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01F-A92A-43D5-9F90-0F7860D8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1D8-491F-48CE-B3C6-269E0FD9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DA9-011E-43C0-813B-379AEC5C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009-108F-4A1C-8E3D-A689F8A2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E9B-8330-4873-9928-F657D1F0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B5D-77FC-4A8F-A609-745DBFB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5D7-5AA3-446D-873F-3489EE8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A55-9CD9-4F17-92A3-197D4B288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ILLA 2- 1° p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IOENERG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PORTE ELECTRONICO y FOSFORILACIO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ena Respiratoria. Complejos. Inhibidores y desacoplantes. Síntesis de ATP. Transloc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TROS SISTEMAS DE TRANSPOR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Sistema Microsomal. Oxigenasas.Catal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rmacion de species reactivas del oxígeno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dicales libres. Sistemas de prote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CANISMOS DE SINTESIS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FORILACION A NIVEL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FORILACION 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174760" cy="1314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 rot="20941200">
            <a:off x="3276360" y="5013000"/>
            <a:ext cx="2090520" cy="126504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5508720" y="4292640"/>
            <a:ext cx="2952720" cy="2016000"/>
            <a:chOff x="5508720" y="4292640"/>
            <a:chExt cx="2952720" cy="2016000"/>
          </a:xfrm>
        </p:grpSpPr>
        <p:sp>
          <p:nvSpPr>
            <p:cNvPr id="223" name=""/>
            <p:cNvSpPr/>
            <p:nvPr/>
          </p:nvSpPr>
          <p:spPr>
            <a:xfrm>
              <a:off x="5508720" y="4292640"/>
              <a:ext cx="2952720" cy="2016000"/>
            </a:xfrm>
            <a:prstGeom prst="ellipse">
              <a:avLst/>
            </a:prstGeom>
            <a:solidFill>
              <a:srgbClr val="dddddd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80000" y="472428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DENA RESPIRA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508720" y="1844640"/>
            <a:ext cx="3095640" cy="2016000"/>
            <a:chOff x="5508720" y="1844640"/>
            <a:chExt cx="3095640" cy="2016000"/>
          </a:xfrm>
        </p:grpSpPr>
        <p:sp>
          <p:nvSpPr>
            <p:cNvPr id="226" name=""/>
            <p:cNvSpPr/>
            <p:nvPr/>
          </p:nvSpPr>
          <p:spPr>
            <a:xfrm>
              <a:off x="5508720" y="1844640"/>
              <a:ext cx="2952720" cy="2016000"/>
            </a:xfrm>
            <a:prstGeom prst="ellipse">
              <a:avLst/>
            </a:prstGeom>
            <a:solidFill>
              <a:srgbClr val="dddddd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8720" y="2205000"/>
              <a:ext cx="30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IDRÓLISIS DE UNA UNION  DE ALTA ENER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932360" y="5950080"/>
            <a:ext cx="72072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ino de los equivalentes de re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924360" y="1700280"/>
            <a:ext cx="4572000" cy="4238640"/>
            <a:chOff x="3924360" y="1700280"/>
            <a:chExt cx="4572000" cy="423864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rcRect l="0" t="38608" r="0" b="0"/>
            <a:stretch/>
          </p:blipFill>
          <p:spPr>
            <a:xfrm>
              <a:off x="3924360" y="1700280"/>
              <a:ext cx="4572000" cy="42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372360" y="3284640"/>
              <a:ext cx="865080" cy="51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.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0" y="2060640"/>
            <a:ext cx="5148360" cy="3556080"/>
            <a:chOff x="0" y="2060640"/>
            <a:chExt cx="5148360" cy="3556080"/>
          </a:xfrm>
        </p:grpSpPr>
        <p:grpSp>
          <p:nvGrpSpPr>
            <p:cNvPr id="234" name=""/>
            <p:cNvGrpSpPr/>
            <p:nvPr/>
          </p:nvGrpSpPr>
          <p:grpSpPr>
            <a:xfrm>
              <a:off x="0" y="2060640"/>
              <a:ext cx="5148360" cy="3556080"/>
              <a:chOff x="0" y="2060640"/>
              <a:chExt cx="5148360" cy="355608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"/>
              <a:srcRect l="0" t="0" r="35265" b="60965"/>
              <a:stretch/>
            </p:blipFill>
            <p:spPr>
              <a:xfrm>
                <a:off x="538200" y="2205360"/>
                <a:ext cx="3744720" cy="34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330200" y="2348280"/>
                <a:ext cx="1944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in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43280" y="4940640"/>
                <a:ext cx="2305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cio intermem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58920" y="4437360"/>
                <a:ext cx="1656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in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2200" y="2060640"/>
                <a:ext cx="1944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ex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795920"/>
                <a:ext cx="1042920" cy="78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Cresta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ito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124000" y="3148200"/>
              <a:ext cx="936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ENA DE TRANSPORTE ELECTR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componentes de la cadena se encuentran en la membrana mitocondrial in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iben equivalentes de reducción de NADH Y 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ducidos en la ma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componentes se encuentran ordenados en orden creciente de sus potenciales de re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aceptor final de electrones es el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ciales de reducción están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424880"/>
            <a:ext cx="9144000" cy="5375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→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-0.4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NAD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→ NADH                                          -0.3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                                             -0.2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FAD + 2 H</a:t>
            </a:r>
            <a:r>
              <a:rPr b="1" lang="es-AR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 + 2 e- → FADH</a:t>
            </a:r>
            <a:r>
              <a:rPr b="1" lang="es-AR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                                       -0.2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etaldehído + 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etanol                         -0.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ruvato + 2 H+ + 2 e- → lactato                               -0.19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e-                                                          -0.1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b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b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07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c1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+ 0.22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c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c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23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a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- → citocromo a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29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e- →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+ 0.77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½ 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→ 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O                                        +  0.8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ES DE LA CADENA DE TRANSPORTE ELECTR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AVOPROTEI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MN ó FAD: Transportan 2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2 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INAS FERROSULFURA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ransportan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F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++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 Q ó UBIQUINO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Quinona isoprenoi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prote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Transporta 1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libera  2 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la matr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, c,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,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contienen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Transportan 1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3357720"/>
            <a:ext cx="43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 DE LA UBIQUIN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50920" y="1557360"/>
            <a:ext cx="2448000" cy="2455920"/>
            <a:chOff x="250920" y="1557360"/>
            <a:chExt cx="2448000" cy="2455920"/>
          </a:xfrm>
        </p:grpSpPr>
        <p:grpSp>
          <p:nvGrpSpPr>
            <p:cNvPr id="251" name=""/>
            <p:cNvGrpSpPr/>
            <p:nvPr/>
          </p:nvGrpSpPr>
          <p:grpSpPr>
            <a:xfrm>
              <a:off x="395280" y="1557360"/>
              <a:ext cx="2160720" cy="2114640"/>
              <a:chOff x="395280" y="1557360"/>
              <a:chExt cx="2160720" cy="2114640"/>
            </a:xfrm>
          </p:grpSpPr>
          <p:graphicFrame>
            <p:nvGraphicFramePr>
              <p:cNvPr id="252" name=""/>
              <p:cNvGraphicFramePr/>
              <p:nvPr/>
            </p:nvGraphicFramePr>
            <p:xfrm>
              <a:off x="395280" y="1557360"/>
              <a:ext cx="2160720" cy="2114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5280" y="1557360"/>
                        <a:ext cx="2160720" cy="2114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"/>
              <p:cNvSpPr/>
              <p:nvPr/>
            </p:nvSpPr>
            <p:spPr>
              <a:xfrm>
                <a:off x="2195640" y="2565360"/>
                <a:ext cx="358560" cy="368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50920" y="3645000"/>
              <a:ext cx="2448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biquinona (UQ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843280" y="2205000"/>
            <a:ext cx="1657440" cy="503280"/>
            <a:chOff x="2843280" y="2205000"/>
            <a:chExt cx="1657440" cy="503280"/>
          </a:xfrm>
        </p:grpSpPr>
        <p:sp>
          <p:nvSpPr>
            <p:cNvPr id="257" name=""/>
            <p:cNvSpPr/>
            <p:nvPr/>
          </p:nvSpPr>
          <p:spPr>
            <a:xfrm>
              <a:off x="2843280" y="2708280"/>
              <a:ext cx="1657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16360" y="22050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 + H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427640" y="1413000"/>
            <a:ext cx="2592360" cy="2528640"/>
            <a:chOff x="4427640" y="1413000"/>
            <a:chExt cx="2592360" cy="2528640"/>
          </a:xfrm>
        </p:grpSpPr>
        <p:sp>
          <p:nvSpPr>
            <p:cNvPr id="260" name=""/>
            <p:cNvSpPr/>
            <p:nvPr/>
          </p:nvSpPr>
          <p:spPr>
            <a:xfrm>
              <a:off x="4427640" y="3573360"/>
              <a:ext cx="259236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adical semiquin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788000" y="1413000"/>
              <a:ext cx="2160360" cy="2185920"/>
              <a:chOff x="4788000" y="1413000"/>
              <a:chExt cx="2160360" cy="218592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4788000" y="1413000"/>
                <a:ext cx="2160360" cy="2185920"/>
                <a:chOff x="4788000" y="1413000"/>
                <a:chExt cx="2160360" cy="218592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4788000" y="1484280"/>
                  <a:ext cx="2160360" cy="2114640"/>
                  <a:chOff x="4788000" y="1484280"/>
                  <a:chExt cx="2160360" cy="2114640"/>
                </a:xfrm>
              </p:grpSpPr>
              <p:graphicFrame>
                <p:nvGraphicFramePr>
                  <p:cNvPr id="264" name=""/>
                  <p:cNvGraphicFramePr/>
                  <p:nvPr/>
                </p:nvGraphicFramePr>
                <p:xfrm>
                  <a:off x="4788000" y="1484280"/>
                  <a:ext cx="2160360" cy="211464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65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4788000" y="1484280"/>
                            <a:ext cx="2160360" cy="2114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66" name=""/>
                  <p:cNvSpPr/>
                  <p:nvPr/>
                </p:nvSpPr>
                <p:spPr>
                  <a:xfrm>
                    <a:off x="6588000" y="2492280"/>
                    <a:ext cx="358200" cy="368280"/>
                  </a:xfrm>
                  <a:prstGeom prst="rect">
                    <a:avLst/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6011640" y="1628640"/>
                  <a:ext cx="0" cy="432000"/>
                </a:xfrm>
                <a:prstGeom prst="line">
                  <a:avLst/>
                </a:prstGeom>
                <a:ln w="63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40360" y="2781360"/>
                  <a:ext cx="0" cy="431640"/>
                </a:xfrm>
                <a:prstGeom prst="line">
                  <a:avLst/>
                </a:prstGeom>
                <a:ln w="63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11640" y="1413000"/>
                  <a:ext cx="36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42b0a"/>
                      </a:solidFill>
                      <a:latin typeface="Arial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5940360" y="2781360"/>
                <a:ext cx="0" cy="431640"/>
              </a:xfrm>
              <a:prstGeom prst="line">
                <a:avLst/>
              </a:prstGeom>
              <a:ln w="66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4788000" y="4149720"/>
            <a:ext cx="2232000" cy="2421720"/>
            <a:chOff x="4788000" y="4149720"/>
            <a:chExt cx="2232000" cy="2421720"/>
          </a:xfrm>
        </p:grpSpPr>
        <p:grpSp>
          <p:nvGrpSpPr>
            <p:cNvPr id="272" name=""/>
            <p:cNvGrpSpPr/>
            <p:nvPr/>
          </p:nvGrpSpPr>
          <p:grpSpPr>
            <a:xfrm>
              <a:off x="4788000" y="4149720"/>
              <a:ext cx="2160360" cy="2185920"/>
              <a:chOff x="4788000" y="4149720"/>
              <a:chExt cx="2160360" cy="2185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4788000" y="4221000"/>
                <a:ext cx="2160360" cy="2114640"/>
                <a:chOff x="4788000" y="4221000"/>
                <a:chExt cx="2160360" cy="211464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4788000" y="4221000"/>
                <a:ext cx="2160360" cy="21146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788000" y="4221000"/>
                          <a:ext cx="2160360" cy="2114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588000" y="5229000"/>
                  <a:ext cx="358200" cy="3682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6012000" y="4365720"/>
                <a:ext cx="0" cy="431640"/>
              </a:xfrm>
              <a:prstGeom prst="line">
                <a:avLst/>
              </a:prstGeom>
              <a:ln w="63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73840" y="5516640"/>
                <a:ext cx="0" cy="360360"/>
              </a:xfrm>
              <a:prstGeom prst="line">
                <a:avLst/>
              </a:prstGeom>
              <a:ln w="63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12000" y="41497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42b0a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12000" y="5805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42b0a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27640" y="4941720"/>
                <a:ext cx="0" cy="432000"/>
              </a:xfrm>
              <a:prstGeom prst="line">
                <a:avLst/>
              </a:prstGeom>
              <a:ln w="63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24360" y="4941720"/>
                <a:ext cx="0" cy="432000"/>
              </a:xfrm>
              <a:prstGeom prst="line">
                <a:avLst/>
              </a:prstGeom>
              <a:ln w="63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724360" y="4869000"/>
                <a:ext cx="216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24360" y="5300640"/>
                <a:ext cx="28764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27640" y="501336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788000" y="6165720"/>
              <a:ext cx="2232000" cy="405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Ubiquinol (UQ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284720" y="4005360"/>
            <a:ext cx="1008000" cy="431640"/>
            <a:chOff x="4284720" y="4005360"/>
            <a:chExt cx="1008000" cy="431640"/>
          </a:xfrm>
        </p:grpSpPr>
        <p:sp>
          <p:nvSpPr>
            <p:cNvPr id="288" name=""/>
            <p:cNvSpPr/>
            <p:nvPr/>
          </p:nvSpPr>
          <p:spPr>
            <a:xfrm>
              <a:off x="4284720" y="4005360"/>
              <a:ext cx="936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 + H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4005360"/>
              <a:ext cx="0" cy="43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uctura de los citocr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>
            <a:lum bright="-18000"/>
          </a:blip>
          <a:srcRect l="0" t="0" r="0" b="46863"/>
          <a:stretch/>
        </p:blipFill>
        <p:spPr>
          <a:xfrm>
            <a:off x="250920" y="1773360"/>
            <a:ext cx="4290840" cy="31860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4211640" y="2997360"/>
            <a:ext cx="4572000" cy="3178800"/>
            <a:chOff x="4211640" y="2997360"/>
            <a:chExt cx="4572000" cy="317880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rcRect l="0" t="53144" r="0" b="-871"/>
            <a:stretch/>
          </p:blipFill>
          <p:spPr>
            <a:xfrm>
              <a:off x="4211640" y="2997360"/>
              <a:ext cx="4572000" cy="30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211640" y="5805360"/>
              <a:ext cx="3382920" cy="37080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mo A (Citocromo a y a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50920" y="4724280"/>
            <a:ext cx="3960720" cy="37080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 general de citocromo c y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9964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7312"/>
              </a:gs>
              <a:gs pos="50000">
                <a:srgbClr val="f5fa28"/>
              </a:gs>
              <a:gs pos="100000">
                <a:srgbClr val="7073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s de la Cadena de transporte electrónico-Citocrom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1557360"/>
            <a:ext cx="8424720" cy="5272200"/>
          </a:xfrm>
          <a:prstGeom prst="rect">
            <a:avLst/>
          </a:prstGeom>
          <a:solidFill>
            <a:srgbClr val="f8fb6d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mplejo enzimátic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Grupos  prost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 (NADH deshidrogenasa)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FMN, 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I(succinato deshidrogenasa) FAD,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II (citocromo bc</a:t>
            </a:r>
            <a:r>
              <a:rPr b="1" lang="es-E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)             Hemo, 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itocromo c                                          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V (citocromo oxidasa) Hemo,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564000" y="4336920"/>
            <a:ext cx="29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b /Centro Fe-S/ Cit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627280" y="2952720"/>
            <a:ext cx="1368360" cy="863280"/>
            <a:chOff x="2627280" y="2952720"/>
            <a:chExt cx="1368360" cy="863280"/>
          </a:xfrm>
        </p:grpSpPr>
        <p:sp>
          <p:nvSpPr>
            <p:cNvPr id="301" name=""/>
            <p:cNvSpPr/>
            <p:nvPr/>
          </p:nvSpPr>
          <p:spPr>
            <a:xfrm>
              <a:off x="2627280" y="2952720"/>
              <a:ext cx="1368360" cy="8632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27280" y="3094920"/>
              <a:ext cx="136836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enzima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88000" y="4437000"/>
            <a:ext cx="2168280" cy="1989000"/>
            <a:chOff x="6588000" y="4437000"/>
            <a:chExt cx="2168280" cy="1989000"/>
          </a:xfrm>
        </p:grpSpPr>
        <p:sp>
          <p:nvSpPr>
            <p:cNvPr id="304" name=""/>
            <p:cNvSpPr/>
            <p:nvPr/>
          </p:nvSpPr>
          <p:spPr>
            <a:xfrm>
              <a:off x="6588000" y="4437000"/>
              <a:ext cx="1441440" cy="16578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68000" y="4768200"/>
              <a:ext cx="901080" cy="331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/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68000" y="5431320"/>
              <a:ext cx="901080" cy="331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/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8215920" y="5928840"/>
              <a:ext cx="540360" cy="497160"/>
              <a:chOff x="8215920" y="5928840"/>
              <a:chExt cx="540360" cy="497160"/>
            </a:xfrm>
          </p:grpSpPr>
          <p:sp>
            <p:nvSpPr>
              <p:cNvPr id="308" name=""/>
              <p:cNvSpPr/>
              <p:nvPr/>
            </p:nvSpPr>
            <p:spPr>
              <a:xfrm>
                <a:off x="8215920" y="5928840"/>
                <a:ext cx="540360" cy="497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215920" y="5970960"/>
                <a:ext cx="540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7128720" y="5100120"/>
              <a:ext cx="0" cy="33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9080" y="5597280"/>
              <a:ext cx="54036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89080" y="5100120"/>
              <a:ext cx="540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627280" y="863640"/>
            <a:ext cx="1439640" cy="1297080"/>
            <a:chOff x="2627280" y="863640"/>
            <a:chExt cx="1439640" cy="1297080"/>
          </a:xfrm>
        </p:grpSpPr>
        <p:sp>
          <p:nvSpPr>
            <p:cNvPr id="314" name=""/>
            <p:cNvSpPr/>
            <p:nvPr/>
          </p:nvSpPr>
          <p:spPr>
            <a:xfrm>
              <a:off x="2627280" y="863640"/>
              <a:ext cx="1364040" cy="12970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810880" y="965520"/>
              <a:ext cx="974520" cy="486360"/>
              <a:chOff x="2810880" y="965520"/>
              <a:chExt cx="974520" cy="486360"/>
            </a:xfrm>
          </p:grpSpPr>
          <p:sp>
            <p:nvSpPr>
              <p:cNvPr id="316" name=""/>
              <p:cNvSpPr/>
              <p:nvPr/>
            </p:nvSpPr>
            <p:spPr>
              <a:xfrm>
                <a:off x="2810880" y="965520"/>
                <a:ext cx="974520" cy="4863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10880" y="1045800"/>
                <a:ext cx="97452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897640" y="1583280"/>
              <a:ext cx="1169280" cy="486360"/>
              <a:chOff x="2897640" y="1583280"/>
              <a:chExt cx="1169280" cy="486360"/>
            </a:xfrm>
          </p:grpSpPr>
          <p:sp>
            <p:nvSpPr>
              <p:cNvPr id="319" name=""/>
              <p:cNvSpPr/>
              <p:nvPr/>
            </p:nvSpPr>
            <p:spPr>
              <a:xfrm>
                <a:off x="2897640" y="1583280"/>
                <a:ext cx="779400" cy="4863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97640" y="1663200"/>
                <a:ext cx="116928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e-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287520" y="14212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82280" y="1421280"/>
              <a:ext cx="584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924360" y="863640"/>
            <a:ext cx="288720" cy="504720"/>
          </a:xfrm>
          <a:custGeom>
            <a:avLst/>
            <a:gdLst>
              <a:gd name="textAreaLeft" fmla="*/ 38520 w 288720"/>
              <a:gd name="textAreaRight" fmla="*/ 250200 w 2887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3060720" y="2448000"/>
            <a:ext cx="574560" cy="28872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5211600">
            <a:off x="7130520" y="396684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6720" y="33130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19640" y="5445000"/>
            <a:ext cx="136836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omplejo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CITOCROM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36000" y="4753080"/>
            <a:ext cx="1008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 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72360" y="295272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877080" y="2952720"/>
            <a:ext cx="1305000" cy="790560"/>
            <a:chOff x="6877080" y="2952720"/>
            <a:chExt cx="1305000" cy="790560"/>
          </a:xfrm>
        </p:grpSpPr>
        <p:sp>
          <p:nvSpPr>
            <p:cNvPr id="332" name=""/>
            <p:cNvSpPr/>
            <p:nvPr/>
          </p:nvSpPr>
          <p:spPr>
            <a:xfrm>
              <a:off x="6877080" y="2952720"/>
              <a:ext cx="1305000" cy="790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49680" y="3150360"/>
              <a:ext cx="559440" cy="39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390920" y="2661840"/>
            <a:ext cx="1981080" cy="1487160"/>
            <a:chOff x="4390920" y="2661840"/>
            <a:chExt cx="1981080" cy="1487160"/>
          </a:xfrm>
        </p:grpSpPr>
        <p:grpSp>
          <p:nvGrpSpPr>
            <p:cNvPr id="335" name=""/>
            <p:cNvGrpSpPr/>
            <p:nvPr/>
          </p:nvGrpSpPr>
          <p:grpSpPr>
            <a:xfrm>
              <a:off x="4390920" y="2661840"/>
              <a:ext cx="1981080" cy="1487160"/>
              <a:chOff x="4390920" y="2661840"/>
              <a:chExt cx="1981080" cy="148716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4390920" y="2661840"/>
                <a:ext cx="1981080" cy="1487160"/>
                <a:chOff x="4390920" y="2661840"/>
                <a:chExt cx="1981080" cy="1487160"/>
              </a:xfrm>
            </p:grpSpPr>
            <p:sp>
              <p:nvSpPr>
                <p:cNvPr id="337" name=""/>
                <p:cNvSpPr/>
                <p:nvPr/>
              </p:nvSpPr>
              <p:spPr>
                <a:xfrm rot="16200000">
                  <a:off x="4637880" y="2414880"/>
                  <a:ext cx="1487160" cy="198108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020920" y="3276360"/>
                  <a:ext cx="12430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e-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4452840" y="3321000"/>
                <a:ext cx="514080" cy="349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040000" y="3282840"/>
                <a:ext cx="719280" cy="431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59360" y="3328920"/>
                <a:ext cx="476280" cy="385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17960" y="349056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rot="21423000">
              <a:off x="5173560" y="2816280"/>
              <a:ext cx="620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06880" y="3492360"/>
              <a:ext cx="1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284720" y="549360"/>
            <a:ext cx="151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0" y="1197000"/>
            <a:ext cx="144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95640" y="3284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067280" y="3284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84720" y="549360"/>
            <a:ext cx="1943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omplejo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SUCCINATO 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1197000"/>
            <a:ext cx="2303280" cy="2663640"/>
            <a:chOff x="0" y="1197000"/>
            <a:chExt cx="2303280" cy="2663640"/>
          </a:xfrm>
        </p:grpSpPr>
        <p:grpSp>
          <p:nvGrpSpPr>
            <p:cNvPr id="351" name=""/>
            <p:cNvGrpSpPr/>
            <p:nvPr/>
          </p:nvGrpSpPr>
          <p:grpSpPr>
            <a:xfrm>
              <a:off x="574920" y="1197000"/>
              <a:ext cx="936360" cy="647640"/>
              <a:chOff x="574920" y="1197000"/>
              <a:chExt cx="936360" cy="647640"/>
            </a:xfrm>
          </p:grpSpPr>
          <p:sp>
            <p:nvSpPr>
              <p:cNvPr id="352" name=""/>
              <p:cNvSpPr/>
              <p:nvPr/>
            </p:nvSpPr>
            <p:spPr>
              <a:xfrm>
                <a:off x="574920" y="1197000"/>
                <a:ext cx="936360" cy="647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4920" y="1303560"/>
                <a:ext cx="936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935280" y="1989000"/>
              <a:ext cx="1368000" cy="1871640"/>
              <a:chOff x="935280" y="1989000"/>
              <a:chExt cx="1368000" cy="1871640"/>
            </a:xfrm>
          </p:grpSpPr>
          <p:sp>
            <p:nvSpPr>
              <p:cNvPr id="355" name=""/>
              <p:cNvSpPr/>
              <p:nvPr/>
            </p:nvSpPr>
            <p:spPr>
              <a:xfrm>
                <a:off x="935280" y="1989000"/>
                <a:ext cx="1239480" cy="18716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1102320" y="2196720"/>
                <a:ext cx="885600" cy="623880"/>
                <a:chOff x="1102320" y="2196720"/>
                <a:chExt cx="885600" cy="6238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02320" y="2196720"/>
                  <a:ext cx="885600" cy="623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02320" y="2299680"/>
                  <a:ext cx="88560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M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1240920" y="3028680"/>
                <a:ext cx="1062360" cy="623880"/>
                <a:chOff x="1240920" y="3028680"/>
                <a:chExt cx="1062360" cy="6238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1240920" y="3028680"/>
                  <a:ext cx="708120" cy="62388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240920" y="3131280"/>
                  <a:ext cx="1062360" cy="41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e-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1595160" y="2820960"/>
                <a:ext cx="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72280" y="2820960"/>
                <a:ext cx="35424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 rot="973200">
              <a:off x="935280" y="1844280"/>
              <a:ext cx="215640" cy="50472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2106720"/>
              <a:ext cx="863640" cy="36828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000" y="1746360"/>
              <a:ext cx="504720" cy="431640"/>
            </a:xfrm>
            <a:prstGeom prst="ellipse">
              <a:avLst/>
            </a:prstGeom>
            <a:solidFill>
              <a:srgbClr val="f42b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95640" y="181764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cubicBezTo>
                    <a:pt x="38" y="38"/>
                    <a:pt x="76" y="76"/>
                    <a:pt x="91" y="91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4000" y="3978360"/>
            <a:ext cx="183492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16000" y="1268280"/>
            <a:ext cx="504720" cy="432000"/>
          </a:xfrm>
          <a:prstGeom prst="ellipse">
            <a:avLst/>
          </a:prstGeom>
          <a:solidFill>
            <a:srgbClr val="fc1c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A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0000" y="6308640"/>
            <a:ext cx="865080" cy="549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59280" y="1125360"/>
            <a:ext cx="504720" cy="432000"/>
          </a:xfrm>
          <a:prstGeom prst="ellipse">
            <a:avLst/>
          </a:prstGeom>
          <a:solidFill>
            <a:srgbClr val="fc1c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AR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39 0.08704 -0.00278 0.17408 0.01042 0.21667 C 0.02361 0.25926 0.03819 0.24769 0.07917 0.25556 C 0.12014 0.26343 0.20104 0.26111 0.25625 0.26389 C 0.31146 0.26667 0.36319 0.27083 0.41042 0.27222 C 0.45764 0.27361 0.51076 0.27269 0.53958 0.27222 C 0.5684 0.27176 0.5691 0.27083 0.58333 0.26945 C 0.59757 0.26806 0.61319 0.26482 0.625 0.26389 C 0.63681 0.26296 0.64931 0.25833 0.65417 0.26389 C 0.65903 0.26945 0.65417 0.28148 0.65417 0.29722 C 0.65417 0.31296 0.65486 0.33333 0.65417 0.35833 C 0.65347 0.38333 0.65104 0.42083 0.65 0.44722 C 0.64896 0.47361 0.64861 0.49537 0.64792 0.51667 C 0.64722 0.53796 0.64097 0.56065 0.64583 0.575 C 0.65069 0.58935 0.65729 0.58704 0.67708 0.60278 C 0.69688 0.61852 0.75069 0.65833 0.76458 0.66945 E">
                                      <p:cBhvr>
                                        <p:cTn id="267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1.85185E-006 C -0.00191 0.09259 -0.00277 0.18542 0.00695 0.23102 C 0.01667 0.27639 0.02743 0.26412 0.05764 0.27246 C 0.08785 0.28079 0.1474 0.27824 0.1882 0.28125 C 0.22882 0.28426 0.26702 0.28866 0.30174 0.29028 C 0.33663 0.29167 0.37587 0.29074 0.39705 0.29028 C 0.41823 0.28959 0.41875 0.28866 0.42934 0.28727 C 0.43976 0.28565 0.45139 0.28218 0.46007 0.28125 C 0.46875 0.28033 0.47795 0.27546 0.4816 0.28125 C 0.48507 0.28727 0.4816 0.3 0.4816 0.3169 C 0.4816 0.33357 0.48212 0.35533 0.4816 0.38195 C 0.48108 0.40857 0.47917 0.44861 0.47848 0.47685 C 0.47761 0.50486 0.47743 0.52824 0.47691 0.55093 C 0.47639 0.57361 0.47188 0.59769 0.47535 0.61296 C 0.479 0.62847 0.48386 0.62593 0.49844 0.64259 C 0.51302 0.65949 0.55278 0.70185 0.56302 0.71389 E">
                                      <p:cBhvr>
                                        <p:cTn id="281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95280" y="2565360"/>
            <a:ext cx="4427640" cy="1800360"/>
            <a:chOff x="395280" y="2565360"/>
            <a:chExt cx="4427640" cy="1800360"/>
          </a:xfrm>
        </p:grpSpPr>
        <p:sp>
          <p:nvSpPr>
            <p:cNvPr id="51" name=""/>
            <p:cNvSpPr/>
            <p:nvPr/>
          </p:nvSpPr>
          <p:spPr>
            <a:xfrm>
              <a:off x="395280" y="2565360"/>
              <a:ext cx="4032360" cy="180036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06560" y="285444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IDOS GRAS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95280" y="260280"/>
            <a:ext cx="4103640" cy="1800360"/>
            <a:chOff x="395280" y="260280"/>
            <a:chExt cx="4103640" cy="1800360"/>
          </a:xfrm>
        </p:grpSpPr>
        <p:sp>
          <p:nvSpPr>
            <p:cNvPr id="54" name=""/>
            <p:cNvSpPr/>
            <p:nvPr/>
          </p:nvSpPr>
          <p:spPr>
            <a:xfrm>
              <a:off x="682560" y="69228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idratos de carbo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5280" y="260280"/>
              <a:ext cx="4032360" cy="180036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5280" y="4869000"/>
            <a:ext cx="4249800" cy="1800000"/>
            <a:chOff x="395280" y="4869000"/>
            <a:chExt cx="4249800" cy="1800000"/>
          </a:xfrm>
        </p:grpSpPr>
        <p:sp>
          <p:nvSpPr>
            <p:cNvPr id="57" name=""/>
            <p:cNvSpPr/>
            <p:nvPr/>
          </p:nvSpPr>
          <p:spPr>
            <a:xfrm>
              <a:off x="828720" y="515628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MINOACI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5280" y="4869000"/>
              <a:ext cx="3600360" cy="180000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219640" y="1413000"/>
            <a:ext cx="1224000" cy="4248000"/>
            <a:chOff x="5219640" y="1413000"/>
            <a:chExt cx="1224000" cy="4248000"/>
          </a:xfrm>
        </p:grpSpPr>
        <p:sp>
          <p:nvSpPr>
            <p:cNvPr id="60" name=""/>
            <p:cNvSpPr/>
            <p:nvPr/>
          </p:nvSpPr>
          <p:spPr>
            <a:xfrm>
              <a:off x="5219640" y="1413000"/>
              <a:ext cx="1224000" cy="4248000"/>
            </a:xfrm>
            <a:prstGeom prst="rightArrowCallout">
              <a:avLst>
                <a:gd name="adj1" fmla="val 86773"/>
                <a:gd name="adj2" fmla="val 8676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64000" y="1628640"/>
              <a:ext cx="50328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XIDAC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802800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333360"/>
            <a:ext cx="2340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estos con uniones ricas en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659640" y="191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357720"/>
            <a:ext cx="71892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67640" y="2781360"/>
            <a:ext cx="1476360" cy="1295280"/>
            <a:chOff x="7667640" y="2781360"/>
            <a:chExt cx="1476360" cy="1295280"/>
          </a:xfrm>
        </p:grpSpPr>
        <p:sp>
          <p:nvSpPr>
            <p:cNvPr id="68" name=""/>
            <p:cNvSpPr/>
            <p:nvPr/>
          </p:nvSpPr>
          <p:spPr>
            <a:xfrm>
              <a:off x="7775640" y="2852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75640" y="3500280"/>
              <a:ext cx="136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2781360"/>
              <a:ext cx="73080" cy="129528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74800" y="3610440"/>
            <a:ext cx="3259800" cy="3169080"/>
            <a:chOff x="6274800" y="3610440"/>
            <a:chExt cx="3259800" cy="3169080"/>
          </a:xfrm>
        </p:grpSpPr>
        <p:grpSp>
          <p:nvGrpSpPr>
            <p:cNvPr id="72" name=""/>
            <p:cNvGrpSpPr/>
            <p:nvPr/>
          </p:nvGrpSpPr>
          <p:grpSpPr>
            <a:xfrm>
              <a:off x="6274800" y="3610440"/>
              <a:ext cx="3259800" cy="3169080"/>
              <a:chOff x="6274800" y="3610440"/>
              <a:chExt cx="3259800" cy="3169080"/>
            </a:xfrm>
          </p:grpSpPr>
          <p:sp>
            <p:nvSpPr>
              <p:cNvPr id="73" name=""/>
              <p:cNvSpPr/>
              <p:nvPr/>
            </p:nvSpPr>
            <p:spPr>
              <a:xfrm rot="1776600">
                <a:off x="6665400" y="4076280"/>
                <a:ext cx="2478240" cy="22366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64360" y="4869000"/>
                <a:ext cx="1224000" cy="581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42b0a"/>
                    </a:solidFill>
                    <a:latin typeface="Arial"/>
                  </a:rPr>
                  <a:t>AT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101080" y="39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ES DEL COMPLEJ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2133720"/>
            <a:ext cx="8675640" cy="1511280"/>
          </a:xfrm>
          <a:prstGeom prst="rect">
            <a:avLst/>
          </a:prstGeom>
          <a:solidFill>
            <a:srgbClr val="f8f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  +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- 0,32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N  +  2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2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FMN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(E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- 0,22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42920" y="4221000"/>
            <a:ext cx="7345440" cy="579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DH + H+  +  FMN → FM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NAD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280" y="2421000"/>
            <a:ext cx="504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67280" y="328464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es que proveen de NADH a la cadena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l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cetogluta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9640" y="5373720"/>
            <a:ext cx="691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strato  +  NAD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Producto  +  NADH + 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5661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51640" y="5229360"/>
            <a:ext cx="2089080" cy="792000"/>
          </a:xfrm>
          <a:prstGeom prst="rect">
            <a:avLst/>
          </a:prstGeom>
          <a:solidFill>
            <a:srgbClr val="ffff00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4072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01080" y="5300640"/>
            <a:ext cx="647640" cy="36828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498920" y="2924280"/>
            <a:ext cx="3386160" cy="1799640"/>
            <a:chOff x="4498920" y="2924280"/>
            <a:chExt cx="3386160" cy="1799640"/>
          </a:xfrm>
        </p:grpSpPr>
        <p:sp>
          <p:nvSpPr>
            <p:cNvPr id="385" name=""/>
            <p:cNvSpPr/>
            <p:nvPr/>
          </p:nvSpPr>
          <p:spPr>
            <a:xfrm>
              <a:off x="5292720" y="2924280"/>
              <a:ext cx="2592360" cy="1655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ICLO DE 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8920" y="3141720"/>
              <a:ext cx="720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16360" y="4005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643280" y="4581000"/>
              <a:ext cx="792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ino de los equivalentes de reducción en el Complej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8121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JO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-coenzima Q oxidor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: F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s ferrosulfu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fiere equivalentes de reducción desde succinato a la coenzima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03280" y="407664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4005360"/>
            <a:ext cx="7956720" cy="29858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 + E-FAD              Fumarato + E-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-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E-FAD  +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Q                    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CoQ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35280" y="443700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64000" y="537372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92360" y="6093000"/>
            <a:ext cx="64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Deshidrogenasas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que entregan electrones a la Ubiquin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Acil-CoA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licerol-3-fosf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234936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2565360"/>
            <a:ext cx="1079640" cy="216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2000" y="2421000"/>
            <a:ext cx="1511280" cy="79200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T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796000" y="249228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43280" y="2637000"/>
            <a:ext cx="1079640" cy="215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0360" y="3357720"/>
            <a:ext cx="2233440" cy="642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TFP-ubiquinona oxidor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5084640"/>
            <a:ext cx="1079640" cy="216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508464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03640" y="515772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2492280"/>
            <a:ext cx="9144000" cy="20890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INO DE LOS ELECTRONES desde el COMPLEJO III al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4038480" cy="1198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rcRect l="0" t="0" r="19734" b="-5467"/>
          <a:stretch/>
        </p:blipFill>
        <p:spPr>
          <a:xfrm>
            <a:off x="3862440" y="3141720"/>
            <a:ext cx="3241800" cy="1295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08000" y="3141720"/>
            <a:ext cx="100800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Q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2200" y="407664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rcRect l="53388" t="0" r="0" b="-5467"/>
          <a:stretch/>
        </p:blipFill>
        <p:spPr>
          <a:xfrm>
            <a:off x="7081920" y="3141720"/>
            <a:ext cx="1882800" cy="1295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486080" y="3500280"/>
            <a:ext cx="1009440" cy="57636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9236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7672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7164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5128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5636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4328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24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48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2764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600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3600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846920" y="2997360"/>
            <a:ext cx="129708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½ O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+ H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496360" y="4076640"/>
            <a:ext cx="64764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38440" y="3500280"/>
            <a:ext cx="1081080" cy="5032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5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62440" y="3645000"/>
            <a:ext cx="863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e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59280" y="3500280"/>
            <a:ext cx="108108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84720" y="3500280"/>
            <a:ext cx="79236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164360" y="3500280"/>
            <a:ext cx="86364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a.a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732720" y="4508640"/>
            <a:ext cx="1728720" cy="1233360"/>
            <a:chOff x="6732720" y="4508640"/>
            <a:chExt cx="1728720" cy="1233360"/>
          </a:xfrm>
        </p:grpSpPr>
        <p:grpSp>
          <p:nvGrpSpPr>
            <p:cNvPr id="437" name=""/>
            <p:cNvGrpSpPr/>
            <p:nvPr/>
          </p:nvGrpSpPr>
          <p:grpSpPr>
            <a:xfrm>
              <a:off x="7093080" y="4508640"/>
              <a:ext cx="1008000" cy="360360"/>
              <a:chOff x="7093080" y="4508640"/>
              <a:chExt cx="1008000" cy="360360"/>
            </a:xfrm>
          </p:grpSpPr>
          <p:sp>
            <p:nvSpPr>
              <p:cNvPr id="438" name=""/>
              <p:cNvSpPr/>
              <p:nvPr/>
            </p:nvSpPr>
            <p:spPr>
              <a:xfrm>
                <a:off x="7093080" y="486900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93080" y="45086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101080" y="45086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6732720" y="5373720"/>
              <a:ext cx="1728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mplejo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24720" y="4869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476360" y="4221000"/>
            <a:ext cx="4464000" cy="1663920"/>
            <a:chOff x="1476360" y="4221000"/>
            <a:chExt cx="4464000" cy="1663920"/>
          </a:xfrm>
        </p:grpSpPr>
        <p:grpSp>
          <p:nvGrpSpPr>
            <p:cNvPr id="444" name=""/>
            <p:cNvGrpSpPr/>
            <p:nvPr/>
          </p:nvGrpSpPr>
          <p:grpSpPr>
            <a:xfrm>
              <a:off x="1476360" y="4221000"/>
              <a:ext cx="4464000" cy="720720"/>
              <a:chOff x="1476360" y="4221000"/>
              <a:chExt cx="4464000" cy="72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476360" y="422100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76360" y="4941720"/>
                <a:ext cx="446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940360" y="422100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700360" y="5516640"/>
              <a:ext cx="1728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mplejo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92360" y="4941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628280" y="4119480"/>
            <a:ext cx="90000" cy="60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377080" y="3297240"/>
            <a:ext cx="422280" cy="90360"/>
            <a:chOff x="2377080" y="3297240"/>
            <a:chExt cx="422280" cy="90360"/>
          </a:xfrm>
        </p:grpSpPr>
        <p:sp>
          <p:nvSpPr>
            <p:cNvPr id="452" name=""/>
            <p:cNvSpPr/>
            <p:nvPr/>
          </p:nvSpPr>
          <p:spPr>
            <a:xfrm flipH="1" flipV="1">
              <a:off x="2377080" y="3297240"/>
              <a:ext cx="69840" cy="82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709360" y="3327840"/>
              <a:ext cx="90000" cy="59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529440" y="4087800"/>
            <a:ext cx="358560" cy="85320"/>
            <a:chOff x="3529440" y="4087800"/>
            <a:chExt cx="358560" cy="85320"/>
          </a:xfrm>
        </p:grpSpPr>
        <p:sp>
          <p:nvSpPr>
            <p:cNvPr id="455" name=""/>
            <p:cNvSpPr/>
            <p:nvPr/>
          </p:nvSpPr>
          <p:spPr>
            <a:xfrm flipH="1">
              <a:off x="3529440" y="4087800"/>
              <a:ext cx="66600" cy="8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16000" y="4090320"/>
              <a:ext cx="72000" cy="80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>
            <a:off x="5763600" y="4160880"/>
            <a:ext cx="66240" cy="85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90920" y="4198320"/>
            <a:ext cx="72000" cy="80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4537800" y="3262680"/>
            <a:ext cx="69840" cy="82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977720" y="3292920"/>
            <a:ext cx="90000" cy="59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877800" y="3297600"/>
            <a:ext cx="421560" cy="89640"/>
            <a:chOff x="6877800" y="3297600"/>
            <a:chExt cx="421560" cy="89640"/>
          </a:xfrm>
        </p:grpSpPr>
        <p:sp>
          <p:nvSpPr>
            <p:cNvPr id="462" name=""/>
            <p:cNvSpPr/>
            <p:nvPr/>
          </p:nvSpPr>
          <p:spPr>
            <a:xfrm flipH="1" flipV="1">
              <a:off x="6877800" y="3297600"/>
              <a:ext cx="69840" cy="8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209720" y="3327840"/>
              <a:ext cx="89640" cy="59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 flipH="1">
            <a:off x="7849080" y="4195800"/>
            <a:ext cx="66600" cy="85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22920" y="4198320"/>
            <a:ext cx="72000" cy="80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991800" y="4225320"/>
            <a:ext cx="124560" cy="9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Remando en La Florida - Autor: Secretaría de Turismo de San Luis"/>
          <p:cNvPicPr/>
          <p:nvPr/>
        </p:nvPicPr>
        <p:blipFill>
          <a:blip r:embed="rId1"/>
          <a:stretch/>
        </p:blipFill>
        <p:spPr>
          <a:xfrm>
            <a:off x="324000" y="260280"/>
            <a:ext cx="5635440" cy="37116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Tiempo de nadar - Autor: Secretaría de Turismo de San Luis"/>
          <p:cNvPicPr/>
          <p:nvPr/>
        </p:nvPicPr>
        <p:blipFill>
          <a:blip r:embed="rId2"/>
          <a:stretch/>
        </p:blipFill>
        <p:spPr>
          <a:xfrm>
            <a:off x="3924360" y="3419640"/>
            <a:ext cx="52196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TESIS DE ATP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A QUIMIOSM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971640" y="1628640"/>
            <a:ext cx="7777080" cy="4746600"/>
            <a:chOff x="971640" y="1628640"/>
            <a:chExt cx="7777080" cy="474660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971640" y="1773360"/>
              <a:ext cx="7488000" cy="46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411280" y="5300640"/>
              <a:ext cx="194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40360" y="1628640"/>
              <a:ext cx="2808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SPACIO INTERMEMB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13976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LOCACION DE PROTONES Y SINTESIS DE 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595620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ULADOS DE LA TEORIA QUIMIOSM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mbrana mitocondrial impermeable a pro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ulsion de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urante el transporte de electr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ación de un gradiente electroquímico (H+ y cargas positi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asaje de los H+ a través de Fo activan l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TP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4797360"/>
            <a:ext cx="5915160" cy="1236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ferrosulf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lavoproteína y citocrom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erzima Q y citocromos c y a-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enosina Trifosfato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-4525" b="11768"/>
          <a:stretch/>
        </p:blipFill>
        <p:spPr>
          <a:xfrm>
            <a:off x="755640" y="2205000"/>
            <a:ext cx="80992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locasa ADP-AT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 transportador de 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859280" y="3213000"/>
            <a:ext cx="276120" cy="2259000"/>
          </a:xfrm>
          <a:custGeom>
            <a:avLst/>
            <a:gdLst/>
            <a:ahLst/>
            <a:rect l="l" t="t" r="r" b="b"/>
            <a:pathLst>
              <a:path w="392" h="2379">
                <a:moveTo>
                  <a:pt x="240" y="0"/>
                </a:moveTo>
                <a:cubicBezTo>
                  <a:pt x="250" y="59"/>
                  <a:pt x="267" y="110"/>
                  <a:pt x="285" y="354"/>
                </a:cubicBezTo>
                <a:cubicBezTo>
                  <a:pt x="303" y="598"/>
                  <a:pt x="392" y="1127"/>
                  <a:pt x="345" y="1464"/>
                </a:cubicBezTo>
                <a:cubicBezTo>
                  <a:pt x="298" y="1801"/>
                  <a:pt x="72" y="2189"/>
                  <a:pt x="0" y="2379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95280" y="2781360"/>
            <a:ext cx="8423280" cy="3198600"/>
            <a:chOff x="395280" y="2781360"/>
            <a:chExt cx="8423280" cy="3198600"/>
          </a:xfrm>
        </p:grpSpPr>
        <p:sp>
          <p:nvSpPr>
            <p:cNvPr id="484" name=""/>
            <p:cNvSpPr/>
            <p:nvPr/>
          </p:nvSpPr>
          <p:spPr>
            <a:xfrm>
              <a:off x="4788000" y="3645000"/>
              <a:ext cx="523800" cy="1363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5280" y="5013360"/>
              <a:ext cx="194472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8360" y="2924280"/>
              <a:ext cx="157320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Citos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7640" y="3933720"/>
              <a:ext cx="84240" cy="1006560"/>
            </a:xfrm>
            <a:custGeom>
              <a:avLst/>
              <a:gdLst>
                <a:gd name="textAreaLeft" fmla="*/ 0 w 84240"/>
                <a:gd name="textAreaRight" fmla="*/ 30240 w 84240"/>
                <a:gd name="textAreaTop" fmla="*/ 25920 h 1006560"/>
                <a:gd name="textAreaBottom" fmla="*/ 98064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3640" y="3860640"/>
              <a:ext cx="2374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Membrana mitocondrial 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00360" y="2781360"/>
              <a:ext cx="35622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DP  ATP       Pi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84360" y="5516640"/>
              <a:ext cx="4151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DP    ATP      Pi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4160" y="3556080"/>
              <a:ext cx="512640" cy="136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0680" y="3157560"/>
              <a:ext cx="273240" cy="2232000"/>
            </a:xfrm>
            <a:custGeom>
              <a:avLst/>
              <a:gdLst/>
              <a:ahLst/>
              <a:rect l="l" t="t" r="r" b="b"/>
              <a:pathLst>
                <a:path w="390" h="2351">
                  <a:moveTo>
                    <a:pt x="390" y="2351"/>
                  </a:moveTo>
                  <a:cubicBezTo>
                    <a:pt x="353" y="2298"/>
                    <a:pt x="209" y="2274"/>
                    <a:pt x="150" y="2036"/>
                  </a:cubicBezTo>
                  <a:cubicBezTo>
                    <a:pt x="91" y="1798"/>
                    <a:pt x="0" y="1262"/>
                    <a:pt x="35" y="923"/>
                  </a:cubicBezTo>
                  <a:cubicBezTo>
                    <a:pt x="70" y="584"/>
                    <a:pt x="292" y="192"/>
                    <a:pt x="360" y="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340000" y="4005360"/>
              <a:ext cx="3744360" cy="718560"/>
              <a:chOff x="2340000" y="4005360"/>
              <a:chExt cx="3744360" cy="718560"/>
            </a:xfrm>
          </p:grpSpPr>
          <p:sp>
            <p:nvSpPr>
              <p:cNvPr id="494" name=""/>
              <p:cNvSpPr/>
              <p:nvPr/>
            </p:nvSpPr>
            <p:spPr>
              <a:xfrm>
                <a:off x="2340000" y="4682880"/>
                <a:ext cx="70704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78200" y="4044600"/>
                <a:ext cx="745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778200" y="4721760"/>
                <a:ext cx="745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335560" y="4044600"/>
                <a:ext cx="74880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35560" y="4722120"/>
                <a:ext cx="74808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40000" y="4005360"/>
                <a:ext cx="70704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3197160" y="3263760"/>
              <a:ext cx="274680" cy="2259000"/>
            </a:xfrm>
            <a:custGeom>
              <a:avLst/>
              <a:gdLst/>
              <a:ahLst/>
              <a:rect l="l" t="t" r="r" b="b"/>
              <a:pathLst>
                <a:path w="392" h="2379">
                  <a:moveTo>
                    <a:pt x="240" y="0"/>
                  </a:moveTo>
                  <a:cubicBezTo>
                    <a:pt x="250" y="59"/>
                    <a:pt x="267" y="110"/>
                    <a:pt x="285" y="354"/>
                  </a:cubicBezTo>
                  <a:cubicBezTo>
                    <a:pt x="303" y="598"/>
                    <a:pt x="392" y="1127"/>
                    <a:pt x="345" y="1464"/>
                  </a:cubicBezTo>
                  <a:cubicBezTo>
                    <a:pt x="298" y="1801"/>
                    <a:pt x="72" y="2189"/>
                    <a:pt x="0" y="2379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l transporte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solamente el transporte de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 la fosfor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la síntesis de ATP , indirectamente eel transporte de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Desacop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iden la síntesis de ATP pero no inhiben el transporte de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 la translo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la entrada de ADP y la salida de ATP desde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7667640" y="3860640"/>
            <a:ext cx="73080" cy="1297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ION DE 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4653000"/>
            <a:ext cx="1511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ptores  artificales de electr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24000" y="5013360"/>
            <a:ext cx="115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zul de               m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3280" y="5157720"/>
            <a:ext cx="194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,6 diclorofenol indof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15280" y="5157720"/>
            <a:ext cx="1477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rrican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96000" y="4365720"/>
            <a:ext cx="180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trametil p-fenilendi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7840" y="1916280"/>
            <a:ext cx="2881440" cy="120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Roteno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insectic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mit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barbitúric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hiben Fe-S/C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90920" y="1773360"/>
            <a:ext cx="2952720" cy="822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ntimicina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antibió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oquean citb/cit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96000" y="1700280"/>
            <a:ext cx="2448000" cy="147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N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en l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79280" y="3645000"/>
            <a:ext cx="8964720" cy="696240"/>
            <a:chOff x="179280" y="3645000"/>
            <a:chExt cx="8964720" cy="696240"/>
          </a:xfrm>
        </p:grpSpPr>
        <p:sp>
          <p:nvSpPr>
            <p:cNvPr id="514" name=""/>
            <p:cNvSpPr/>
            <p:nvPr/>
          </p:nvSpPr>
          <p:spPr>
            <a:xfrm>
              <a:off x="250920" y="3645000"/>
              <a:ext cx="87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ADH     FMN     Fe-S     CoQ     cyt b     Fe-S      cit c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citc      cit a      cit 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3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0656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352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272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19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11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672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4036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59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51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170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280" y="3932280"/>
              <a:ext cx="9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-0.3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44000" y="400392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+0.8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804000" y="3860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859280" y="407664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763640" y="3933720"/>
            <a:ext cx="432000" cy="93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4292640"/>
            <a:ext cx="914400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IBIDORES DE LA FOSFOR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Oligomici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Bloquea el flujo de protones a través de 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hibe la síntesis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acumulan protones y se produce una fuerza inversa deteniéndose el transporte de electr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ACOP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00000" y="1844640"/>
            <a:ext cx="6048360" cy="8254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úan como ionóforos eliminando el gradiente de prot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35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755640" y="2708280"/>
            <a:ext cx="2519280" cy="1952640"/>
            <a:chOff x="755640" y="2708280"/>
            <a:chExt cx="2519280" cy="1952640"/>
          </a:xfrm>
        </p:grpSpPr>
        <p:grpSp>
          <p:nvGrpSpPr>
            <p:cNvPr id="537" name=""/>
            <p:cNvGrpSpPr/>
            <p:nvPr/>
          </p:nvGrpSpPr>
          <p:grpSpPr>
            <a:xfrm>
              <a:off x="755640" y="2708280"/>
              <a:ext cx="2247840" cy="1844640"/>
              <a:chOff x="755640" y="2708280"/>
              <a:chExt cx="2247840" cy="1844640"/>
            </a:xfrm>
          </p:grpSpPr>
          <p:pic>
            <p:nvPicPr>
              <p:cNvPr id="5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781360"/>
                <a:ext cx="2247840" cy="17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2340000" y="2708280"/>
                <a:ext cx="576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1" lang="en-US" sz="1600" spc="-1" strike="noStrike" baseline="30000">
                    <a:solidFill>
                      <a:srgbClr val="0000ff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826920" y="4292640"/>
              <a:ext cx="2448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"/>
                </a:rPr>
                <a:t>2,4 Dinitrofenol (DN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2247840" cy="17715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5219640" y="4437000"/>
            <a:ext cx="280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protonada que atraviesa la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56000" y="400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 P/O en presencia de 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339408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rato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35280" y="3324240"/>
            <a:ext cx="0" cy="1079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1640" y="35384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16000" y="447516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3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098480" y="4080600"/>
            <a:ext cx="1236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n-US" sz="1800" spc="-1" strike="noStrike">
                <a:solidFill>
                  <a:srgbClr val="f42b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1700280"/>
            <a:ext cx="129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48360" y="342900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3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51280" y="5373720"/>
            <a:ext cx="158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04000" y="2276640"/>
            <a:ext cx="2089080" cy="792000"/>
            <a:chOff x="6804000" y="2276640"/>
            <a:chExt cx="2089080" cy="792000"/>
          </a:xfrm>
        </p:grpSpPr>
        <p:sp>
          <p:nvSpPr>
            <p:cNvPr id="557" name=""/>
            <p:cNvSpPr/>
            <p:nvPr/>
          </p:nvSpPr>
          <p:spPr>
            <a:xfrm>
              <a:off x="6804000" y="2419560"/>
              <a:ext cx="2089080" cy="405720"/>
            </a:xfrm>
            <a:prstGeom prst="rect">
              <a:avLst/>
            </a:prstGeom>
            <a:noFill/>
            <a:ln w="9360">
              <a:solidFill>
                <a:srgbClr val="f42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Q al 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020000" y="2276640"/>
              <a:ext cx="1224000" cy="792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93080" y="2276640"/>
              <a:ext cx="115092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1979640" y="33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5280" y="3357720"/>
            <a:ext cx="0" cy="1366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67280" y="3213000"/>
            <a:ext cx="504720" cy="432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067280" y="2420640"/>
            <a:ext cx="649080" cy="2142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516720" y="155736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342900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19640" y="5950080"/>
            <a:ext cx="2232000" cy="68004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e-   e-   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2764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31640" y="35384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468360" y="1125360"/>
            <a:ext cx="35989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rato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FADH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42920" y="3284640"/>
            <a:ext cx="1297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04000" y="549360"/>
            <a:ext cx="13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20000" y="2133720"/>
            <a:ext cx="122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140360" y="4869000"/>
            <a:ext cx="143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692360" y="1844640"/>
            <a:ext cx="0" cy="1079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31640" y="2060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35280" y="19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211640" y="1341000"/>
            <a:ext cx="360360" cy="142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067280" y="2060640"/>
            <a:ext cx="433440" cy="504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635280" y="1989000"/>
            <a:ext cx="0" cy="165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1197000"/>
            <a:ext cx="2089080" cy="40572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804000" y="2781360"/>
            <a:ext cx="2089080" cy="792000"/>
            <a:chOff x="6804000" y="2781360"/>
            <a:chExt cx="2089080" cy="792000"/>
          </a:xfrm>
        </p:grpSpPr>
        <p:sp>
          <p:nvSpPr>
            <p:cNvPr id="593" name=""/>
            <p:cNvSpPr/>
            <p:nvPr/>
          </p:nvSpPr>
          <p:spPr>
            <a:xfrm>
              <a:off x="6804000" y="2924280"/>
              <a:ext cx="2089080" cy="405720"/>
            </a:xfrm>
            <a:prstGeom prst="rect">
              <a:avLst/>
            </a:prstGeom>
            <a:noFill/>
            <a:ln w="9360">
              <a:solidFill>
                <a:srgbClr val="f42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n-US" sz="1800" spc="-1" strike="noStrike">
                  <a:solidFill>
                    <a:srgbClr val="f42b0a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Q al 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020000" y="2781360"/>
              <a:ext cx="1224000" cy="792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93080" y="2781360"/>
              <a:ext cx="115092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464328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95640" y="5589720"/>
            <a:ext cx="2232000" cy="68004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 e-   e-   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88000" y="213372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443640" y="47628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1640" y="2060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14200" y="260280"/>
            <a:ext cx="89298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Oxidaciones alternativas de transporte de electrones en pla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16360" y="4005360"/>
            <a:ext cx="2305080" cy="1512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AD(P)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11280" y="2133720"/>
            <a:ext cx="2305080" cy="1150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076720" y="1916280"/>
            <a:ext cx="1871640" cy="1296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biquin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812000" y="1916280"/>
            <a:ext cx="1081080" cy="647640"/>
          </a:xfrm>
          <a:prstGeom prst="ellipse">
            <a:avLst/>
          </a:prstGeom>
          <a:solidFill>
            <a:srgbClr val="fb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s-MX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916360" y="249228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93080" y="2637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63640" y="1628640"/>
            <a:ext cx="1081080" cy="432000"/>
          </a:xfrm>
          <a:prstGeom prst="wedgeRectCallout">
            <a:avLst>
              <a:gd name="adj1" fmla="val -44564"/>
              <a:gd name="adj2" fmla="val 6985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ADH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12000" y="2924280"/>
            <a:ext cx="1332000" cy="865080"/>
          </a:xfrm>
          <a:prstGeom prst="irregularSeal2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0836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500720" y="2492280"/>
            <a:ext cx="50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995640" y="292392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064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fisiolog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ducción de calor en algunas especies vegetales como por ej.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racea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pecies en un etapa anterior a la polinización para producción de compuestos aromáticos que atraen a los poliniz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activa durante períodos de altas velocidades de oxidación de sustratos para evitar la producción de radicales libres.(Esqueletos carbonados C.Kre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activa en situaciones de estrés (sequia, temperaturas extremas, tóxicos presentes en el suelo, falta de Pi, patógenos)( en estas situaciones disminuye la velocidad de la cadena respiratoria 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ergía de Hidrólisis de los Compuestos de elevada Ener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2720" y="1773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’= - 30,5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p= - 50-65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479736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8360" y="2492280"/>
            <a:ext cx="4464000" cy="1620000"/>
            <a:chOff x="468360" y="2492280"/>
            <a:chExt cx="4464000" cy="1620000"/>
          </a:xfrm>
        </p:grpSpPr>
        <p:sp>
          <p:nvSpPr>
            <p:cNvPr id="83" name=""/>
            <p:cNvSpPr/>
            <p:nvPr/>
          </p:nvSpPr>
          <p:spPr>
            <a:xfrm>
              <a:off x="468360" y="2492280"/>
              <a:ext cx="4464000" cy="162000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    O     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-P-O-P-O -P-O-Ribosa-Ad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g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gATP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8720" y="270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2000" y="270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8720" y="31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3800" y="31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9038600">
              <a:off x="902520" y="357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96400">
              <a:off x="1333080" y="3565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36720" y="27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36720" y="3068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340000" y="4292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4360" y="5157720"/>
            <a:ext cx="2014560" cy="2168640"/>
            <a:chOff x="684360" y="5157720"/>
            <a:chExt cx="2014560" cy="2168640"/>
          </a:xfrm>
        </p:grpSpPr>
        <p:sp>
          <p:nvSpPr>
            <p:cNvPr id="94" name=""/>
            <p:cNvSpPr/>
            <p:nvPr/>
          </p:nvSpPr>
          <p:spPr>
            <a:xfrm>
              <a:off x="2195640" y="5157720"/>
              <a:ext cx="50328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84360" y="5157720"/>
              <a:ext cx="1726920" cy="2168640"/>
              <a:chOff x="684360" y="5157720"/>
              <a:chExt cx="1726920" cy="2168640"/>
            </a:xfrm>
          </p:grpSpPr>
          <p:sp>
            <p:nvSpPr>
              <p:cNvPr id="96" name=""/>
              <p:cNvSpPr/>
              <p:nvPr/>
            </p:nvSpPr>
            <p:spPr>
              <a:xfrm>
                <a:off x="826920" y="5300640"/>
                <a:ext cx="1584360" cy="20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     P      O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1083240" y="56934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1580040" y="580464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32000" y="58770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32000" y="55101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4360" y="5229360"/>
                <a:ext cx="71280" cy="1368360"/>
              </a:xfrm>
              <a:custGeom>
                <a:avLst/>
                <a:gdLst>
                  <a:gd name="textAreaLeft" fmla="*/ 20880 w 71280"/>
                  <a:gd name="textAreaRight" fmla="*/ 71640 w 71280"/>
                  <a:gd name="textAreaTop" fmla="*/ 56880 h 1368360"/>
                  <a:gd name="textAreaBottom" fmla="*/ 131148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24000" y="5157720"/>
                <a:ext cx="144360" cy="1440000"/>
              </a:xfrm>
              <a:custGeom>
                <a:avLst/>
                <a:gdLst>
                  <a:gd name="textAreaLeft" fmla="*/ 0 w 144360"/>
                  <a:gd name="textAreaRight" fmla="*/ 101160 w 144360"/>
                  <a:gd name="textAreaTop" fmla="*/ 59760 h 1440000"/>
                  <a:gd name="textAreaBottom" fmla="*/ 1380240 h 144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4716360" y="4221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140360" y="5445000"/>
            <a:ext cx="2016000" cy="1202760"/>
            <a:chOff x="4140360" y="5445000"/>
            <a:chExt cx="2016000" cy="1202760"/>
          </a:xfrm>
        </p:grpSpPr>
        <p:sp>
          <p:nvSpPr>
            <p:cNvPr id="105" name=""/>
            <p:cNvSpPr/>
            <p:nvPr/>
          </p:nvSpPr>
          <p:spPr>
            <a:xfrm>
              <a:off x="4140360" y="5445000"/>
              <a:ext cx="2016000" cy="1202760"/>
            </a:xfrm>
            <a:prstGeom prst="rect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MP  + P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5805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211640" y="2997360"/>
            <a:ext cx="45370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ción de 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imerización de ARN ó  ADN (desiox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ción 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imiolumini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PECIES REACTIVAS DEL OXI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" y="2104920"/>
            <a:ext cx="40384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067280" y="2104920"/>
            <a:ext cx="4619520" cy="3629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xígeno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Superóx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óxido de Hid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dical Hidrox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iminacion de 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5fa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ZIMAS ANTIOXID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STANCIAS QUIMICAS ANTIOXIDA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940360" y="3860640"/>
            <a:ext cx="27352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corb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tamin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eta-carot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372360" y="1844640"/>
            <a:ext cx="22320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2987640" y="2205000"/>
            <a:ext cx="5904000" cy="657360"/>
            <a:chOff x="2987640" y="2205000"/>
            <a:chExt cx="5904000" cy="657360"/>
          </a:xfrm>
        </p:grpSpPr>
        <p:sp>
          <p:nvSpPr>
            <p:cNvPr id="632" name=""/>
            <p:cNvSpPr/>
            <p:nvPr/>
          </p:nvSpPr>
          <p:spPr>
            <a:xfrm>
              <a:off x="2987640" y="2205000"/>
              <a:ext cx="5904000" cy="65736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600" spc="-1" strike="noStrike" baseline="30000">
                  <a:solidFill>
                    <a:srgbClr val="000000"/>
                  </a:solidFill>
                  <a:latin typeface="Arial"/>
                </a:rPr>
                <a:t>.-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+ 2 H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+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48360" y="24210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673200" y="6461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4360" y="476280"/>
            <a:ext cx="8226360" cy="113976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zimas antioxid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11280" y="3789360"/>
            <a:ext cx="1655640" cy="1081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39640" y="5229360"/>
            <a:ext cx="2016360" cy="1368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LU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771640" y="3932280"/>
            <a:ext cx="5399280" cy="505080"/>
            <a:chOff x="2771640" y="3932280"/>
            <a:chExt cx="5399280" cy="505080"/>
          </a:xfrm>
        </p:grpSpPr>
        <p:sp>
          <p:nvSpPr>
            <p:cNvPr id="639" name=""/>
            <p:cNvSpPr/>
            <p:nvPr/>
          </p:nvSpPr>
          <p:spPr>
            <a:xfrm>
              <a:off x="2771640" y="3932280"/>
              <a:ext cx="5399280" cy="50508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 +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56000" y="41479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843280" y="5661000"/>
            <a:ext cx="6262560" cy="573120"/>
            <a:chOff x="2843280" y="5661000"/>
            <a:chExt cx="6262560" cy="573120"/>
          </a:xfrm>
        </p:grpSpPr>
        <p:sp>
          <p:nvSpPr>
            <p:cNvPr id="642" name=""/>
            <p:cNvSpPr/>
            <p:nvPr/>
          </p:nvSpPr>
          <p:spPr>
            <a:xfrm>
              <a:off x="2843280" y="5661000"/>
              <a:ext cx="6262560" cy="57312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 GSH +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GSSG + 2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46560" y="5948280"/>
              <a:ext cx="12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66560" y="1844640"/>
            <a:ext cx="2376720" cy="158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UPEROX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XIDASAS Y 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8360" y="1484280"/>
            <a:ext cx="8229600" cy="2044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ización: Microsomas y per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sociados a la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o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648" name="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651" name="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incorporan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655" name="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660" name="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corporan un átomo del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663" name="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corporan los 2 átomos del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XID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ción peroxisómica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tocromo  oxid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5640" y="270828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voproteína: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FAD   y    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140360" y="29242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732720" y="2997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00000" y="4843440"/>
            <a:ext cx="705672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proteína: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24360" y="51577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27640" y="508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NOOXIGENASAS u OXIGENASAS DE FUNCION MIXTA ó HIDROXI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  +  B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O=O         A-OH  +  B  +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067280" y="227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O se incorpora al sustrato y el otro 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900000" y="23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40000" y="2421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-Sus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995640" y="31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292720" y="2849400"/>
            <a:ext cx="3024360" cy="71748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NADH, NADPH, FMNH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, FADH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, BH</a:t>
            </a:r>
            <a:r>
              <a:rPr b="1" lang="en-US" sz="1800" spc="-1" strike="noStrike" baseline="-25000">
                <a:solidFill>
                  <a:srgbClr val="f42b0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55640" y="4437000"/>
            <a:ext cx="7777080" cy="1376280"/>
            <a:chOff x="755640" y="4437000"/>
            <a:chExt cx="7777080" cy="1376280"/>
          </a:xfrm>
        </p:grpSpPr>
        <p:sp>
          <p:nvSpPr>
            <p:cNvPr id="684" name=""/>
            <p:cNvSpPr/>
            <p:nvPr/>
          </p:nvSpPr>
          <p:spPr>
            <a:xfrm>
              <a:off x="755640" y="4869000"/>
              <a:ext cx="3024360" cy="36828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TOCROMO P-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995640" y="4581000"/>
              <a:ext cx="647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67280" y="5084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67280" y="5373720"/>
              <a:ext cx="64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59280" y="4437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idroxilación de estero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03640" y="494172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idroxilación de fárma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32360" y="5445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idroxilación de xenobió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OCROMO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aturación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DE REACCION  Y UBICACIÓN CELULAR DEL CITOCROMO 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253960" y="4869000"/>
            <a:ext cx="5412240" cy="1584360"/>
            <a:chOff x="2253960" y="4869000"/>
            <a:chExt cx="5412240" cy="1584360"/>
          </a:xfrm>
        </p:grpSpPr>
        <p:grpSp>
          <p:nvGrpSpPr>
            <p:cNvPr id="696" name=""/>
            <p:cNvGrpSpPr/>
            <p:nvPr/>
          </p:nvGrpSpPr>
          <p:grpSpPr>
            <a:xfrm>
              <a:off x="2253960" y="4869000"/>
              <a:ext cx="1764360" cy="1584360"/>
              <a:chOff x="2253960" y="4869000"/>
              <a:chExt cx="1764360" cy="1584360"/>
            </a:xfrm>
          </p:grpSpPr>
          <p:grpSp>
            <p:nvGrpSpPr>
              <p:cNvPr id="697" name=""/>
              <p:cNvGrpSpPr/>
              <p:nvPr/>
            </p:nvGrpSpPr>
            <p:grpSpPr>
              <a:xfrm>
                <a:off x="2253960" y="4869000"/>
                <a:ext cx="312120" cy="1584360"/>
                <a:chOff x="2253960" y="4869000"/>
                <a:chExt cx="312120" cy="1584360"/>
              </a:xfrm>
            </p:grpSpPr>
            <p:grpSp>
              <p:nvGrpSpPr>
                <p:cNvPr id="698" name=""/>
                <p:cNvGrpSpPr/>
                <p:nvPr/>
              </p:nvGrpSpPr>
              <p:grpSpPr>
                <a:xfrm>
                  <a:off x="2266920" y="4869000"/>
                  <a:ext cx="299160" cy="720720"/>
                  <a:chOff x="2266920" y="4869000"/>
                  <a:chExt cx="299160" cy="72072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22777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26692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48724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2253960" y="5732640"/>
                  <a:ext cx="299880" cy="720720"/>
                  <a:chOff x="2253960" y="5732640"/>
                  <a:chExt cx="299880" cy="7207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rot="10800000">
                    <a:off x="22539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10800000">
                    <a:off x="247140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10800000">
                    <a:off x="225396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6" name=""/>
              <p:cNvGrpSpPr/>
              <p:nvPr/>
            </p:nvGrpSpPr>
            <p:grpSpPr>
              <a:xfrm>
                <a:off x="2601360" y="4869000"/>
                <a:ext cx="312120" cy="1584360"/>
                <a:chOff x="2601360" y="4869000"/>
                <a:chExt cx="312120" cy="158436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2614320" y="4869000"/>
                  <a:ext cx="299160" cy="720720"/>
                  <a:chOff x="2614320" y="4869000"/>
                  <a:chExt cx="299160" cy="72072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26251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61432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83464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2601360" y="5732640"/>
                  <a:ext cx="299880" cy="720720"/>
                  <a:chOff x="2601360" y="5732640"/>
                  <a:chExt cx="299880" cy="72072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 rot="10800000">
                    <a:off x="26013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rot="10800000">
                    <a:off x="281880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rot="10800000">
                    <a:off x="260136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" name=""/>
              <p:cNvGrpSpPr/>
              <p:nvPr/>
            </p:nvGrpSpPr>
            <p:grpSpPr>
              <a:xfrm>
                <a:off x="3706200" y="4869000"/>
                <a:ext cx="312120" cy="1584360"/>
                <a:chOff x="3706200" y="4869000"/>
                <a:chExt cx="312120" cy="1584360"/>
              </a:xfrm>
            </p:grpSpPr>
            <p:grpSp>
              <p:nvGrpSpPr>
                <p:cNvPr id="716" name=""/>
                <p:cNvGrpSpPr/>
                <p:nvPr/>
              </p:nvGrpSpPr>
              <p:grpSpPr>
                <a:xfrm>
                  <a:off x="3719160" y="4869000"/>
                  <a:ext cx="299160" cy="720720"/>
                  <a:chOff x="3719160" y="4869000"/>
                  <a:chExt cx="299160" cy="72072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>
                    <a:off x="37299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371916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393948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3706200" y="5732640"/>
                  <a:ext cx="299880" cy="720720"/>
                  <a:chOff x="3706200" y="5732640"/>
                  <a:chExt cx="299880" cy="72072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 rot="10800000">
                    <a:off x="37062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rot="10800000">
                    <a:off x="392364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rot="10800000">
                    <a:off x="370620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4" name=""/>
              <p:cNvGrpSpPr/>
              <p:nvPr/>
            </p:nvGrpSpPr>
            <p:grpSpPr>
              <a:xfrm>
                <a:off x="2961720" y="4869000"/>
                <a:ext cx="312120" cy="1584360"/>
                <a:chOff x="2961720" y="4869000"/>
                <a:chExt cx="312120" cy="1584360"/>
              </a:xfrm>
            </p:grpSpPr>
            <p:grpSp>
              <p:nvGrpSpPr>
                <p:cNvPr id="725" name=""/>
                <p:cNvGrpSpPr/>
                <p:nvPr/>
              </p:nvGrpSpPr>
              <p:grpSpPr>
                <a:xfrm>
                  <a:off x="2974680" y="4869000"/>
                  <a:ext cx="299160" cy="720720"/>
                  <a:chOff x="2974680" y="4869000"/>
                  <a:chExt cx="299160" cy="72072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29854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97468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19500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2961720" y="5732640"/>
                  <a:ext cx="299880" cy="720720"/>
                  <a:chOff x="2961720" y="5732640"/>
                  <a:chExt cx="299880" cy="72072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rot="10800000">
                    <a:off x="29617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10800000">
                    <a:off x="317916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0800000">
                    <a:off x="296172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" name=""/>
              <p:cNvGrpSpPr/>
              <p:nvPr/>
            </p:nvGrpSpPr>
            <p:grpSpPr>
              <a:xfrm>
                <a:off x="3320640" y="4869000"/>
                <a:ext cx="312120" cy="1584360"/>
                <a:chOff x="3320640" y="4869000"/>
                <a:chExt cx="312120" cy="1584360"/>
              </a:xfrm>
            </p:grpSpPr>
            <p:grpSp>
              <p:nvGrpSpPr>
                <p:cNvPr id="734" name=""/>
                <p:cNvGrpSpPr/>
                <p:nvPr/>
              </p:nvGrpSpPr>
              <p:grpSpPr>
                <a:xfrm>
                  <a:off x="3333600" y="4869000"/>
                  <a:ext cx="299160" cy="720720"/>
                  <a:chOff x="3333600" y="4869000"/>
                  <a:chExt cx="299160" cy="72072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>
                    <a:off x="33444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333360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55392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3320640" y="5732640"/>
                  <a:ext cx="299880" cy="720720"/>
                  <a:chOff x="3320640" y="5732640"/>
                  <a:chExt cx="299880" cy="72072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rot="10800000">
                    <a:off x="33206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rot="10800000">
                    <a:off x="353808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rot="10800000">
                    <a:off x="332064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2" name=""/>
            <p:cNvGrpSpPr/>
            <p:nvPr/>
          </p:nvGrpSpPr>
          <p:grpSpPr>
            <a:xfrm>
              <a:off x="4066560" y="4869000"/>
              <a:ext cx="1764360" cy="1584360"/>
              <a:chOff x="4066560" y="4869000"/>
              <a:chExt cx="1764360" cy="158436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4066560" y="4869000"/>
                <a:ext cx="312120" cy="1584360"/>
                <a:chOff x="4066560" y="4869000"/>
                <a:chExt cx="312120" cy="1584360"/>
              </a:xfrm>
            </p:grpSpPr>
            <p:grpSp>
              <p:nvGrpSpPr>
                <p:cNvPr id="744" name=""/>
                <p:cNvGrpSpPr/>
                <p:nvPr/>
              </p:nvGrpSpPr>
              <p:grpSpPr>
                <a:xfrm>
                  <a:off x="4079520" y="4869000"/>
                  <a:ext cx="299160" cy="720720"/>
                  <a:chOff x="4079520" y="4869000"/>
                  <a:chExt cx="299160" cy="72072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40903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07952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29984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4066560" y="5732640"/>
                  <a:ext cx="299880" cy="720720"/>
                  <a:chOff x="4066560" y="5732640"/>
                  <a:chExt cx="299880" cy="72072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 rot="10800000">
                    <a:off x="40665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rot="10800000">
                    <a:off x="428400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10800000">
                    <a:off x="406656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"/>
              <p:cNvGrpSpPr/>
              <p:nvPr/>
            </p:nvGrpSpPr>
            <p:grpSpPr>
              <a:xfrm>
                <a:off x="4413960" y="4869000"/>
                <a:ext cx="312120" cy="1584360"/>
                <a:chOff x="4413960" y="4869000"/>
                <a:chExt cx="312120" cy="158436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4426920" y="4869000"/>
                  <a:ext cx="299160" cy="720720"/>
                  <a:chOff x="4426920" y="4869000"/>
                  <a:chExt cx="299160" cy="72072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>
                    <a:off x="44377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42692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64724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4413960" y="5732640"/>
                  <a:ext cx="299880" cy="720720"/>
                  <a:chOff x="4413960" y="5732640"/>
                  <a:chExt cx="299880" cy="72072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 rot="10800000">
                    <a:off x="44139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rot="10800000">
                    <a:off x="463140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10800000">
                    <a:off x="441396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"/>
              <p:cNvGrpSpPr/>
              <p:nvPr/>
            </p:nvGrpSpPr>
            <p:grpSpPr>
              <a:xfrm>
                <a:off x="5518800" y="4869000"/>
                <a:ext cx="312120" cy="1584360"/>
                <a:chOff x="5518800" y="4869000"/>
                <a:chExt cx="312120" cy="1584360"/>
              </a:xfrm>
            </p:grpSpPr>
            <p:grpSp>
              <p:nvGrpSpPr>
                <p:cNvPr id="762" name=""/>
                <p:cNvGrpSpPr/>
                <p:nvPr/>
              </p:nvGrpSpPr>
              <p:grpSpPr>
                <a:xfrm>
                  <a:off x="5531760" y="4869000"/>
                  <a:ext cx="299160" cy="720720"/>
                  <a:chOff x="5531760" y="4869000"/>
                  <a:chExt cx="299160" cy="7207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55425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553176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75208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5518800" y="5732640"/>
                  <a:ext cx="299880" cy="720720"/>
                  <a:chOff x="5518800" y="5732640"/>
                  <a:chExt cx="299880" cy="72072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 rot="10800000">
                    <a:off x="55188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rot="10800000">
                    <a:off x="573624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0800000">
                    <a:off x="551880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0" name=""/>
              <p:cNvGrpSpPr/>
              <p:nvPr/>
            </p:nvGrpSpPr>
            <p:grpSpPr>
              <a:xfrm>
                <a:off x="4774320" y="4869000"/>
                <a:ext cx="312120" cy="1584360"/>
                <a:chOff x="4774320" y="4869000"/>
                <a:chExt cx="312120" cy="1584360"/>
              </a:xfrm>
            </p:grpSpPr>
            <p:grpSp>
              <p:nvGrpSpPr>
                <p:cNvPr id="771" name=""/>
                <p:cNvGrpSpPr/>
                <p:nvPr/>
              </p:nvGrpSpPr>
              <p:grpSpPr>
                <a:xfrm>
                  <a:off x="4787280" y="4869000"/>
                  <a:ext cx="299160" cy="720720"/>
                  <a:chOff x="4787280" y="4869000"/>
                  <a:chExt cx="299160" cy="72072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47980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78728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00760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4774320" y="5732640"/>
                  <a:ext cx="299880" cy="720720"/>
                  <a:chOff x="4774320" y="5732640"/>
                  <a:chExt cx="299880" cy="72072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 rot="10800000">
                    <a:off x="47743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rot="10800000">
                    <a:off x="499176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10800000">
                    <a:off x="477432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5133240" y="4869000"/>
                <a:ext cx="312120" cy="1584360"/>
                <a:chOff x="5133240" y="4869000"/>
                <a:chExt cx="312120" cy="158436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5146200" y="4869000"/>
                  <a:ext cx="299160" cy="720720"/>
                  <a:chOff x="5146200" y="4869000"/>
                  <a:chExt cx="299160" cy="72072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>
                    <a:off x="51570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514620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536652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5133240" y="5732640"/>
                  <a:ext cx="299880" cy="720720"/>
                  <a:chOff x="5133240" y="5732640"/>
                  <a:chExt cx="299880" cy="72072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 rot="10800000">
                    <a:off x="51332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rot="10800000">
                    <a:off x="535068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rot="10800000">
                    <a:off x="513324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8" name=""/>
            <p:cNvGrpSpPr/>
            <p:nvPr/>
          </p:nvGrpSpPr>
          <p:grpSpPr>
            <a:xfrm>
              <a:off x="5901840" y="4869000"/>
              <a:ext cx="1764360" cy="1584360"/>
              <a:chOff x="5901840" y="4869000"/>
              <a:chExt cx="1764360" cy="158436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5901840" y="4869000"/>
                <a:ext cx="312120" cy="1584360"/>
                <a:chOff x="5901840" y="4869000"/>
                <a:chExt cx="312120" cy="1584360"/>
              </a:xfrm>
            </p:grpSpPr>
            <p:grpSp>
              <p:nvGrpSpPr>
                <p:cNvPr id="790" name=""/>
                <p:cNvGrpSpPr/>
                <p:nvPr/>
              </p:nvGrpSpPr>
              <p:grpSpPr>
                <a:xfrm>
                  <a:off x="5914800" y="4869000"/>
                  <a:ext cx="299160" cy="720720"/>
                  <a:chOff x="5914800" y="4869000"/>
                  <a:chExt cx="299160" cy="72072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59256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591480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13512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5901840" y="5732640"/>
                  <a:ext cx="299880" cy="720720"/>
                  <a:chOff x="5901840" y="5732640"/>
                  <a:chExt cx="299880" cy="72072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rot="10800000">
                    <a:off x="59018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10800000">
                    <a:off x="611928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10800000">
                    <a:off x="590184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8" name=""/>
              <p:cNvGrpSpPr/>
              <p:nvPr/>
            </p:nvGrpSpPr>
            <p:grpSpPr>
              <a:xfrm>
                <a:off x="6249240" y="4869000"/>
                <a:ext cx="312120" cy="1584360"/>
                <a:chOff x="6249240" y="4869000"/>
                <a:chExt cx="312120" cy="158436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6262200" y="4869000"/>
                  <a:ext cx="299160" cy="720720"/>
                  <a:chOff x="6262200" y="4869000"/>
                  <a:chExt cx="299160" cy="72072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62730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26220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648252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6249240" y="5732640"/>
                  <a:ext cx="299880" cy="720720"/>
                  <a:chOff x="6249240" y="5732640"/>
                  <a:chExt cx="299880" cy="72072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rot="10800000">
                    <a:off x="62492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rot="10800000">
                    <a:off x="646668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rot="10800000">
                    <a:off x="624924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7" name=""/>
              <p:cNvGrpSpPr/>
              <p:nvPr/>
            </p:nvGrpSpPr>
            <p:grpSpPr>
              <a:xfrm>
                <a:off x="7354080" y="4869000"/>
                <a:ext cx="312120" cy="1584360"/>
                <a:chOff x="7354080" y="4869000"/>
                <a:chExt cx="312120" cy="1584360"/>
              </a:xfrm>
            </p:grpSpPr>
            <p:grpSp>
              <p:nvGrpSpPr>
                <p:cNvPr id="808" name=""/>
                <p:cNvGrpSpPr/>
                <p:nvPr/>
              </p:nvGrpSpPr>
              <p:grpSpPr>
                <a:xfrm>
                  <a:off x="7367040" y="4869000"/>
                  <a:ext cx="299160" cy="720720"/>
                  <a:chOff x="7367040" y="4869000"/>
                  <a:chExt cx="299160" cy="72072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737784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736704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758736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354080" y="5732640"/>
                  <a:ext cx="299880" cy="720720"/>
                  <a:chOff x="7354080" y="5732640"/>
                  <a:chExt cx="299880" cy="72072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rot="10800000">
                    <a:off x="735408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rot="10800000">
                    <a:off x="757152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10800000">
                    <a:off x="735408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6" name=""/>
              <p:cNvGrpSpPr/>
              <p:nvPr/>
            </p:nvGrpSpPr>
            <p:grpSpPr>
              <a:xfrm>
                <a:off x="6609600" y="4869000"/>
                <a:ext cx="312120" cy="1584360"/>
                <a:chOff x="6609600" y="4869000"/>
                <a:chExt cx="312120" cy="158436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6622560" y="4869000"/>
                  <a:ext cx="299160" cy="720720"/>
                  <a:chOff x="6622560" y="4869000"/>
                  <a:chExt cx="299160" cy="72072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66333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62256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684288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6609600" y="5732640"/>
                  <a:ext cx="299880" cy="720720"/>
                  <a:chOff x="6609600" y="5732640"/>
                  <a:chExt cx="299880" cy="72072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 rot="10800000">
                    <a:off x="66096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0800000">
                    <a:off x="682704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rot="10800000">
                    <a:off x="660960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5" name=""/>
              <p:cNvGrpSpPr/>
              <p:nvPr/>
            </p:nvGrpSpPr>
            <p:grpSpPr>
              <a:xfrm>
                <a:off x="6968520" y="4869000"/>
                <a:ext cx="312120" cy="1584360"/>
                <a:chOff x="6968520" y="4869000"/>
                <a:chExt cx="312120" cy="1584360"/>
              </a:xfrm>
            </p:grpSpPr>
            <p:grpSp>
              <p:nvGrpSpPr>
                <p:cNvPr id="826" name=""/>
                <p:cNvGrpSpPr/>
                <p:nvPr/>
              </p:nvGrpSpPr>
              <p:grpSpPr>
                <a:xfrm>
                  <a:off x="6981480" y="4869000"/>
                  <a:ext cx="299160" cy="720720"/>
                  <a:chOff x="6981480" y="4869000"/>
                  <a:chExt cx="299160" cy="72072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69922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981480" y="5158080"/>
                    <a:ext cx="820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201800" y="5146920"/>
                    <a:ext cx="7884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6968520" y="5732640"/>
                  <a:ext cx="299880" cy="720720"/>
                  <a:chOff x="6968520" y="5732640"/>
                  <a:chExt cx="299880" cy="72072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 rot="10800000">
                    <a:off x="69685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rot="10800000">
                    <a:off x="7185960" y="5732640"/>
                    <a:ext cx="8244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2">
                        <a:moveTo>
                          <a:pt x="52" y="0"/>
                        </a:moveTo>
                        <a:cubicBezTo>
                          <a:pt x="33" y="23"/>
                          <a:pt x="14" y="46"/>
                          <a:pt x="7" y="91"/>
                        </a:cubicBezTo>
                        <a:cubicBezTo>
                          <a:pt x="0" y="136"/>
                          <a:pt x="7" y="242"/>
                          <a:pt x="7" y="27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rot="10800000">
                    <a:off x="6968520" y="5732640"/>
                    <a:ext cx="7920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9">
                        <a:moveTo>
                          <a:pt x="0" y="0"/>
                        </a:moveTo>
                        <a:cubicBezTo>
                          <a:pt x="7" y="21"/>
                          <a:pt x="36" y="97"/>
                          <a:pt x="43" y="143"/>
                        </a:cubicBezTo>
                        <a:cubicBezTo>
                          <a:pt x="50" y="189"/>
                          <a:pt x="43" y="256"/>
                          <a:pt x="43" y="2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4" name=""/>
          <p:cNvSpPr/>
          <p:nvPr/>
        </p:nvSpPr>
        <p:spPr>
          <a:xfrm>
            <a:off x="2987640" y="2781360"/>
            <a:ext cx="2808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635280" y="3933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 P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1606200">
            <a:off x="1692000" y="2205000"/>
            <a:ext cx="1439640" cy="280836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19633800">
            <a:off x="5651640" y="1988640"/>
            <a:ext cx="1584360" cy="27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478440 h 2735280"/>
              <a:gd name="textAreaBottom" fmla="*/ 198324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400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547640" y="177336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0400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740720" y="321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912000" y="42670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T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5013360"/>
            <a:ext cx="22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A RETICULO ENDOPLA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87280" y="2646360"/>
            <a:ext cx="17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0101"/>
                </a:solidFill>
                <a:latin typeface="Arial"/>
              </a:rPr>
              <a:t>NA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0101"/>
                </a:solidFill>
                <a:latin typeface="Arial"/>
              </a:rPr>
              <a:t>NADP</a:t>
            </a:r>
            <a:r>
              <a:rPr b="1" lang="en-US" sz="2000" spc="-1" strike="noStrike" baseline="30000">
                <a:solidFill>
                  <a:srgbClr val="250101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95640" y="278136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5c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06d01"/>
              </a:gs>
              <a:gs pos="50000">
                <a:srgbClr val="f4ee04"/>
              </a:gs>
              <a:gs pos="100000">
                <a:srgbClr val="706d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squema de reacción donde interviene un Citocromo P4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b0a"/>
                </a:solidFill>
                <a:latin typeface="Arial"/>
              </a:rPr>
              <a:t>NADP</a:t>
            </a:r>
            <a:r>
              <a:rPr b="1" lang="en-US" sz="18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Arial"/>
              </a:rPr>
              <a:t>CytP450 (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550520" y="2762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Arial"/>
              </a:rPr>
              <a:t>CytP450 (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261080" y="2023920"/>
            <a:ext cx="1416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859280" y="2095560"/>
            <a:ext cx="3144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rato hidroxi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42b0a"/>
                </a:solidFill>
                <a:latin typeface="Arial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157280" y="1484280"/>
            <a:ext cx="83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2b0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42b0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e-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tocromo 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42b0a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872" name="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42920" y="907920"/>
            <a:ext cx="2449440" cy="2112120"/>
            <a:chOff x="1042920" y="907920"/>
            <a:chExt cx="2449440" cy="2112120"/>
          </a:xfrm>
        </p:grpSpPr>
        <p:sp>
          <p:nvSpPr>
            <p:cNvPr id="109" name=""/>
            <p:cNvSpPr/>
            <p:nvPr/>
          </p:nvSpPr>
          <p:spPr>
            <a:xfrm>
              <a:off x="1042920" y="907920"/>
              <a:ext cx="2449440" cy="211212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–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– 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Fosfoenol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’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= - 61,9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16000" y="112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6000" y="1484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810108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43280" y="115920"/>
            <a:ext cx="2449800" cy="3024360"/>
            <a:chOff x="4643280" y="115920"/>
            <a:chExt cx="2449800" cy="3024360"/>
          </a:xfrm>
        </p:grpSpPr>
        <p:sp>
          <p:nvSpPr>
            <p:cNvPr id="114" name=""/>
            <p:cNvSpPr/>
            <p:nvPr/>
          </p:nvSpPr>
          <p:spPr>
            <a:xfrm>
              <a:off x="4643280" y="115920"/>
              <a:ext cx="2449800" cy="302436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– 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-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,3-Bisfosfoglice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’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 - 49,3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3000600">
              <a:off x="4930200" y="25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641000">
              <a:off x="4932360" y="47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ff33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14920" y="62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14920" y="112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42920" y="4005360"/>
            <a:ext cx="3384720" cy="214956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                  C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– P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H – C –N – C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sfo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’ = - 43,0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45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48360" y="4149720"/>
            <a:ext cx="2663640" cy="2216880"/>
            <a:chOff x="5148360" y="4149720"/>
            <a:chExt cx="2663640" cy="2216880"/>
          </a:xfrm>
        </p:grpSpPr>
        <p:sp>
          <p:nvSpPr>
            <p:cNvPr id="125" name=""/>
            <p:cNvSpPr/>
            <p:nvPr/>
          </p:nvSpPr>
          <p:spPr>
            <a:xfrm>
              <a:off x="5148360" y="4149720"/>
              <a:ext cx="2663640" cy="221688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 -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S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’ = - 32,2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64000" y="4437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3453000">
              <a:off x="5653800" y="4720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XIDORREDUCTASAS (DESHIDROGENAS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solidFill>
            <a:srgbClr val="fdfee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eshidrogenasas ligadas a NAD ó nicotinamí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14172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A  +  NADH  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5832360" cy="257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5013360"/>
            <a:ext cx="2016360" cy="1511280"/>
          </a:xfrm>
          <a:prstGeom prst="rect">
            <a:avLst/>
          </a:prstGeom>
          <a:solidFill>
            <a:srgbClr val="bbe0e3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 DE REDUCCION DE 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00000" y="1928880"/>
            <a:ext cx="3024000" cy="2545920"/>
            <a:chOff x="900000" y="1928880"/>
            <a:chExt cx="3024000" cy="2545920"/>
          </a:xfrm>
        </p:grpSpPr>
        <p:sp>
          <p:nvSpPr>
            <p:cNvPr id="136" name=""/>
            <p:cNvSpPr/>
            <p:nvPr/>
          </p:nvSpPr>
          <p:spPr>
            <a:xfrm>
              <a:off x="1476360" y="1928880"/>
              <a:ext cx="576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900000" y="2508120"/>
              <a:ext cx="3024000" cy="1966680"/>
              <a:chOff x="900000" y="2508120"/>
              <a:chExt cx="3024000" cy="19666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"/>
              <a:srcRect l="-3436" t="46834" r="69095" b="-1364"/>
              <a:stretch/>
            </p:blipFill>
            <p:spPr>
              <a:xfrm>
                <a:off x="900000" y="2508120"/>
                <a:ext cx="2808360" cy="19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2124000" y="2508120"/>
                <a:ext cx="1800000" cy="50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32000" y="2289240"/>
              <a:ext cx="720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6360" y="3639960"/>
              <a:ext cx="43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76360" y="2936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995640" y="3500280"/>
            <a:ext cx="1513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2276640"/>
            <a:ext cx="244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:H</a:t>
            </a:r>
            <a:r>
              <a:rPr b="1" lang="es-ES" sz="24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(ion hidru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924280"/>
            <a:ext cx="21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35640" y="1844640"/>
            <a:ext cx="3386160" cy="2688480"/>
            <a:chOff x="5435640" y="1844640"/>
            <a:chExt cx="3386160" cy="2688480"/>
          </a:xfrm>
        </p:grpSpPr>
        <p:grpSp>
          <p:nvGrpSpPr>
            <p:cNvPr id="147" name=""/>
            <p:cNvGrpSpPr/>
            <p:nvPr/>
          </p:nvGrpSpPr>
          <p:grpSpPr>
            <a:xfrm>
              <a:off x="5435640" y="2492280"/>
              <a:ext cx="3024000" cy="1966680"/>
              <a:chOff x="5435640" y="2492280"/>
              <a:chExt cx="3024000" cy="19666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5435640" y="2492280"/>
                <a:ext cx="3024000" cy="1966680"/>
                <a:chOff x="5435640" y="2492280"/>
                <a:chExt cx="3024000" cy="196668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5435640" y="2492280"/>
                  <a:ext cx="3024000" cy="1966680"/>
                  <a:chOff x="5435640" y="2492280"/>
                  <a:chExt cx="3024000" cy="1966680"/>
                </a:xfrm>
              </p:grpSpPr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5435640" y="2492280"/>
                    <a:ext cx="3024000" cy="1966680"/>
                    <a:chOff x="5435640" y="2492280"/>
                    <a:chExt cx="3024000" cy="1966680"/>
                  </a:xfrm>
                </p:grpSpPr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rcRect l="-3436" t="46834" r="69095" b="-1364"/>
                    <a:stretch/>
                  </p:blipFill>
                  <p:spPr>
                    <a:xfrm>
                      <a:off x="5435640" y="2492280"/>
                      <a:ext cx="2808360" cy="19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59640" y="2492280"/>
                      <a:ext cx="1800000" cy="5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" name=""/>
                  <p:cNvSpPr/>
                  <p:nvPr/>
                </p:nvSpPr>
                <p:spPr>
                  <a:xfrm>
                    <a:off x="6219000" y="2936880"/>
                    <a:ext cx="377640" cy="185760"/>
                  </a:xfrm>
                  <a:prstGeom prst="line">
                    <a:avLst/>
                  </a:prstGeom>
                  <a:ln w="1332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>
                  <a:off x="6012000" y="2778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..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6156000" y="3497040"/>
                  <a:ext cx="360360" cy="216000"/>
                </a:xfrm>
                <a:prstGeom prst="line">
                  <a:avLst/>
                </a:prstGeom>
                <a:ln w="88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6551640" y="3065400"/>
                <a:ext cx="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flipH="1">
              <a:off x="5866920" y="3786120"/>
              <a:ext cx="28908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27640" y="3786120"/>
              <a:ext cx="2890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2920" y="40734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 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40720" y="2924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6360" y="1844640"/>
              <a:ext cx="5047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4720" y="1849320"/>
              <a:ext cx="576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26920" y="4437000"/>
            <a:ext cx="2449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D OXI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4508640"/>
            <a:ext cx="27370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D REDU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065000">
            <a:off x="-70560" y="2743920"/>
            <a:ext cx="17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llo de nicotina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249228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hidrogenasas ligadas a FAD ó a F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11280" y="1773360"/>
            <a:ext cx="7704000" cy="510120"/>
            <a:chOff x="611280" y="1773360"/>
            <a:chExt cx="7704000" cy="510120"/>
          </a:xfrm>
        </p:grpSpPr>
        <p:sp>
          <p:nvSpPr>
            <p:cNvPr id="169" name=""/>
            <p:cNvSpPr/>
            <p:nvPr/>
          </p:nvSpPr>
          <p:spPr>
            <a:xfrm>
              <a:off x="611280" y="1773360"/>
              <a:ext cx="770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+ FAD (FMN)                     A  +  FAD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(FM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35280" y="1989360"/>
              <a:ext cx="115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19280" y="2708280"/>
            <a:ext cx="3483000" cy="4149720"/>
            <a:chOff x="1619280" y="2708280"/>
            <a:chExt cx="3483000" cy="4149720"/>
          </a:xfrm>
        </p:grpSpPr>
        <p:graphicFrame>
          <p:nvGraphicFramePr>
            <p:cNvPr id="172" name=""/>
            <p:cNvGraphicFramePr/>
            <p:nvPr/>
          </p:nvGraphicFramePr>
          <p:xfrm>
            <a:off x="1619280" y="2708280"/>
            <a:ext cx="3483000" cy="414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19280" y="2708280"/>
                      <a:ext cx="3483000" cy="41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3276720" y="5950080"/>
              <a:ext cx="503280" cy="503280"/>
            </a:xfrm>
            <a:prstGeom prst="rect">
              <a:avLst/>
            </a:prstGeom>
            <a:solidFill>
              <a:srgbClr val="bbe0e3">
                <a:alpha val="2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95640" y="5013360"/>
              <a:ext cx="503280" cy="503280"/>
            </a:xfrm>
            <a:prstGeom prst="rect">
              <a:avLst/>
            </a:prstGeom>
            <a:solidFill>
              <a:srgbClr val="bbe0e3">
                <a:alpha val="2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84720" y="3284640"/>
            <a:ext cx="2735280" cy="17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FAD tiene además un nucleótido de adenina unido al 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-Ribosa-Ade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3744a"/>
              </a:gs>
              <a:gs pos="50000">
                <a:srgbClr val="fbfda1"/>
              </a:gs>
              <a:gs pos="100000">
                <a:srgbClr val="73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2349360"/>
            <a:ext cx="395280" cy="2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2637000"/>
            <a:ext cx="0" cy="431640"/>
          </a:xfrm>
          <a:prstGeom prst="line">
            <a:avLst/>
          </a:prstGeom>
          <a:ln w="414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00720" y="1916280"/>
            <a:ext cx="4174920" cy="2503800"/>
            <a:chOff x="4500720" y="1916280"/>
            <a:chExt cx="4174920" cy="2503800"/>
          </a:xfrm>
        </p:grpSpPr>
        <p:grpSp>
          <p:nvGrpSpPr>
            <p:cNvPr id="182" name=""/>
            <p:cNvGrpSpPr/>
            <p:nvPr/>
          </p:nvGrpSpPr>
          <p:grpSpPr>
            <a:xfrm>
              <a:off x="4500720" y="1916280"/>
              <a:ext cx="4174920" cy="2503800"/>
              <a:chOff x="4500720" y="1916280"/>
              <a:chExt cx="4174920" cy="25038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4500720" y="1916280"/>
                <a:ext cx="4174920" cy="2503800"/>
                <a:chOff x="4500720" y="1916280"/>
                <a:chExt cx="4174920" cy="250380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4500720" y="1916280"/>
                  <a:ext cx="4174920" cy="2503800"/>
                  <a:chOff x="4500720" y="1916280"/>
                  <a:chExt cx="4174920" cy="250380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4500720" y="1916280"/>
                    <a:ext cx="4174920" cy="2503800"/>
                    <a:chOff x="4500720" y="1916280"/>
                    <a:chExt cx="4174920" cy="2503800"/>
                  </a:xfrm>
                </p:grpSpPr>
                <p:grpSp>
                  <p:nvGrpSpPr>
                    <p:cNvPr id="186" name=""/>
                    <p:cNvGrpSpPr/>
                    <p:nvPr/>
                  </p:nvGrpSpPr>
                  <p:grpSpPr>
                    <a:xfrm>
                      <a:off x="4500720" y="1916280"/>
                      <a:ext cx="4174920" cy="2503800"/>
                      <a:chOff x="4500720" y="1916280"/>
                      <a:chExt cx="4174920" cy="2503800"/>
                    </a:xfrm>
                  </p:grpSpPr>
                  <p:graphicFrame>
                    <p:nvGraphicFramePr>
                      <p:cNvPr id="187" name=""/>
                      <p:cNvGraphicFramePr/>
                      <p:nvPr/>
                    </p:nvGraphicFramePr>
                    <p:xfrm>
                      <a:off x="4500720" y="1916280"/>
                      <a:ext cx="4174920" cy="2178000"/>
                    </p:xfrm>
                    <a:graphic>
                      <a:graphicData uri="http://schemas.openxmlformats.org/presentationml/2006/ole">
                        <p:oleObj r:id="rId1" spid="">
                          <p:embed/>
                          <p:pic>
                            <p:nvPicPr>
                              <p:cNvPr id="188" name="" descr=""/>
                              <p:cNvPicPr/>
                              <p:nvPr/>
                            </p:nvPicPr>
                            <p:blipFill>
                              <a:blip r:embed="rId2"/>
                              <a:stretch/>
                            </p:blipFill>
                            <p:spPr>
                              <a:xfrm>
                                <a:off x="4500720" y="1916280"/>
                                <a:ext cx="4174920" cy="21780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6588000" y="2835360"/>
                        <a:ext cx="216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42b0a"/>
                            </a:solidFill>
                            <a:latin typeface="Arial"/>
                          </a:rPr>
                          <a:t>.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6516720" y="3411360"/>
                        <a:ext cx="503280" cy="1008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" sz="2000" spc="-1" strike="noStrike">
                            <a:solidFill>
                              <a:srgbClr val="f42b0a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s-E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         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 flipH="1">
                        <a:off x="6732360" y="3025800"/>
                        <a:ext cx="360360" cy="217080"/>
                      </a:xfrm>
                      <a:prstGeom prst="line">
                        <a:avLst/>
                      </a:prstGeom>
                      <a:ln w="6660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6372360" y="3213000"/>
                      <a:ext cx="2872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42b0a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7524720" y="3500280"/>
                    <a:ext cx="433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-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7667640" y="3284640"/>
                  <a:ext cx="0" cy="504360"/>
                </a:xfrm>
                <a:prstGeom prst="line">
                  <a:avLst/>
                </a:prstGeom>
                <a:ln w="4428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7596360" y="3716280"/>
                <a:ext cx="1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236000" y="2997000"/>
              <a:ext cx="43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588000" y="4184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5280" y="1592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608360" y="4292640"/>
            <a:ext cx="4140360" cy="2384280"/>
            <a:chOff x="4608360" y="4292640"/>
            <a:chExt cx="4140360" cy="2384280"/>
          </a:xfrm>
        </p:grpSpPr>
        <p:grpSp>
          <p:nvGrpSpPr>
            <p:cNvPr id="200" name=""/>
            <p:cNvGrpSpPr/>
            <p:nvPr/>
          </p:nvGrpSpPr>
          <p:grpSpPr>
            <a:xfrm>
              <a:off x="4608360" y="4292640"/>
              <a:ext cx="4140360" cy="2384280"/>
              <a:chOff x="4608360" y="4292640"/>
              <a:chExt cx="4140360" cy="23842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4608360" y="4292640"/>
                <a:ext cx="4140360" cy="2384280"/>
                <a:chOff x="4608360" y="4292640"/>
                <a:chExt cx="4140360" cy="2384280"/>
              </a:xfrm>
            </p:grpSpPr>
            <p:graphicFrame>
              <p:nvGraphicFramePr>
                <p:cNvPr id="202" name=""/>
                <p:cNvGraphicFramePr/>
                <p:nvPr/>
              </p:nvGraphicFramePr>
              <p:xfrm>
                <a:off x="4608360" y="4508640"/>
                <a:ext cx="4140360" cy="21682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0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608360" y="4508640"/>
                          <a:ext cx="4140360" cy="2168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4" name=""/>
                <p:cNvSpPr/>
                <p:nvPr/>
              </p:nvSpPr>
              <p:spPr>
                <a:xfrm>
                  <a:off x="7524720" y="4292640"/>
                  <a:ext cx="50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42b0a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588000" y="6093000"/>
                  <a:ext cx="505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42b0a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6877080" y="5589720"/>
                  <a:ext cx="287280" cy="215640"/>
                </a:xfrm>
                <a:prstGeom prst="line">
                  <a:avLst/>
                </a:prstGeom>
                <a:ln w="120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7164360" y="5157720"/>
                <a:ext cx="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H="1">
              <a:off x="7308360" y="4941720"/>
              <a:ext cx="358920" cy="216000"/>
            </a:xfrm>
            <a:prstGeom prst="line">
              <a:avLst/>
            </a:prstGeom>
            <a:ln w="73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5128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164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4005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-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8360" y="2205000"/>
            <a:ext cx="3672000" cy="2763360"/>
            <a:chOff x="468360" y="2205000"/>
            <a:chExt cx="3672000" cy="2763360"/>
          </a:xfrm>
        </p:grpSpPr>
        <p:graphicFrame>
          <p:nvGraphicFramePr>
            <p:cNvPr id="213" name=""/>
            <p:cNvGraphicFramePr/>
            <p:nvPr/>
          </p:nvGraphicFramePr>
          <p:xfrm>
            <a:off x="468360" y="2565360"/>
            <a:ext cx="3672000" cy="1736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2565360"/>
                      <a:ext cx="3672000" cy="17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900000" y="4508640"/>
              <a:ext cx="2735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Anillo isoaloxac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8360" y="2205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851280" y="3860640"/>
            <a:ext cx="1081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52:40Z</dcterms:created>
  <dc:creator>Irma</dc:creator>
  <dc:description/>
  <dc:language>en-US</dc:language>
  <cp:lastModifiedBy>Acosta</cp:lastModifiedBy>
  <dcterms:modified xsi:type="dcterms:W3CDTF">2013-03-22T20:24:07Z</dcterms:modified>
  <cp:revision>188</cp:revision>
  <dc:subject/>
  <dc:title>Diapositiva 1</dc:title>
</cp:coreProperties>
</file>